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A80-F26D-45F9-A005-FC342602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CAD-AB6C-4A6F-BD7D-8A218F6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3EB-3208-4C8B-B66E-0758FA65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03D-E80D-46BE-AAC5-9C370EB4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4D39-3C47-4AF0-91F0-43F5459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70FC-CF0C-4E9B-9468-C7FDD08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852-2547-47C9-B2F1-42AF603A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D92D-B494-4C98-8EA0-39F0D98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C0E1-448F-4CD5-B61C-2B25AE32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3096-3B43-4E91-ADFA-0D4BCE32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9860-6978-4F4B-A6D2-BF9F0E3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419-7647-4ACF-B4AB-8FFC518B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5E5B-4EB3-4B85-93AC-8D6E953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D62D-6040-4A42-8243-72C235D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8DD-151B-4517-A53E-A13919A4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972E-46A9-434C-B77F-5C22F915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D02F-65BE-4FDB-886D-1D1C440B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881-7D36-4E6C-B763-471B9ED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D1C-DBCB-4E4E-BFE7-3BFE811B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14F-AA74-4784-A47E-3EF4E89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DF5-F076-4407-83D8-16596EF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53D-1D80-418F-9C1A-3E1CBE0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C63-74B1-4CE8-BC8C-84B04EB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3CC-728A-4BDA-B09C-4C96960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E1F1-6963-4725-9380-281AFB5FF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8ABE-E28B-43D0-AC81-BA8C33975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огражд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ограждений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в материалах для данного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788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бор ограждений формируется в таблице и сохраняется в чертеже. Участки ограждений добавляются двумя способами: построением на чертеже или указанием существующих полилиний. Для каждого ограждения можно вставить в чертеж схему устройства и таблицу расхода материал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27120" y="938160"/>
            <a:ext cx="489744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орот и кали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880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орота и калитки формируются в отдельный набор, который сохраняется в чертеж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401920" y="958680"/>
            <a:ext cx="48942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ипа огражд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8610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изменения типа ограждений и ворот (калиток), их наименования в наборе и на чертеже и других необходимых параметр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38280" y="1042920"/>
            <a:ext cx="5934240" cy="2228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30360" y="3675240"/>
            <a:ext cx="59342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го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8200" y="1427040"/>
            <a:ext cx="6053040" cy="3662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43040" y="5254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ограждений на чертеже может включать в себя участки ограждений в виде условных линий, ворота (калитки) в виде условных обозначений, а также выноски с надпис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639800" y="1349280"/>
            <a:ext cx="6118200" cy="2965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43040" y="4479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ограждения предусмотрена возможность построения на чертеже схемы устройства огражд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041480" y="1592280"/>
            <a:ext cx="7337520" cy="2249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43040" y="40226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01:05Z</dcterms:modified>
  <cp:revision>254</cp:revision>
  <dc:subject/>
  <dc:title>Слайд 1</dc:title>
</cp:coreProperties>
</file>