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A5DF-40F9-4831-B4B0-351591A0C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BF78-3124-41C4-B9BA-DD6B5E308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3F72-4069-49B0-8B5D-201070AF2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768E-53EC-41B6-9178-46A9B5902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5DD79-ABA6-4C72-BCB0-30B5B13F2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0EC29-6AB3-41BC-AFAE-4D56A06D5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1E326-5920-450B-AF41-1875094E3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C7F01-46B3-4FC2-9BCF-00E27BD62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B0B9C-06F4-473E-B413-C16DB0D57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20AEC-54A4-4E32-9CCF-BD8F6D8A4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389E9-44D1-4646-8C7F-78BCEAF87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A029-8648-4AA4-B732-967D25B73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014ED-7E83-4CCF-AF22-96E987C3C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70A00-92EC-4CCE-8B54-9D656BEA5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5028A-FA69-4D02-9A0F-CBA30A405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23C96-BC88-49A9-8D14-A1FF9DB85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94D5A-46DE-4DFD-B856-BF8BAE8E5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1FD9-0B16-4625-A5BA-B85CDCC2F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0DC1-989C-43EB-AD6C-063742266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4E53-D6C3-4539-AB3A-D9A24C4F0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749D-991F-48C7-AA6C-F5F3CCF86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4E0B-7133-464E-BCBA-F21071180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FFC8-C002-4E74-A75A-DF9C221C2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0371-B240-41A6-8E30-A500D3691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BB05C-206A-482F-B247-A7A0680902B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4749B-D5FE-42C6-A149-283A3A4E65D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61880" y="369720"/>
            <a:ext cx="1165320" cy="641520"/>
          </a:xfrm>
          <a:prstGeom prst="flowChartDecision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000" y="243000"/>
            <a:ext cx="855504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аучно-технический центр «Гектор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граммный комплекс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«Гектор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ектировщик-строитель»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Версия ЭКСПЕРТ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Инструмент для разработки проектов организации строительства (ПОС),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проектов производства работ (ППР), технологических карт (ТК)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Свидетельство РФ о регистрации в Реестре программ для ЭВМ № 200761352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85760" y="25884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8115480" y="26496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730080" y="4068720"/>
            <a:ext cx="7707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Times New Roman"/>
              </a:rPr>
              <a:t>Основные возможности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Times New Roman"/>
              </a:rPr>
              <a:t>программного комплекс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18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19" name="" descr="">
              <a:hlinkClick r:id="" action="ppaction://hlinkshowjump?jump=endshow"/>
            </p:cNvPr>
            <p:cNvPicPr/>
            <p:nvPr/>
          </p:nvPicPr>
          <p:blipFill>
            <a:blip r:embed="rId3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0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1563840" y="241200"/>
            <a:ext cx="6576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Электронный технический архив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00"/>
                </a:solidFill>
                <a:latin typeface="Times New Roman"/>
              </a:rPr>
              <a:t>Отбор объект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304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05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6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676440" y="5540400"/>
            <a:ext cx="812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Предусмотрена возможность отбора объектов в электронном техническом архиве по решаемым разделам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задачам ПОС и ППР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1004760" y="1328760"/>
            <a:ext cx="7510680" cy="411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1563840" y="24120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Автоматизация разработки сложных разделов и задач проектной документации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314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15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6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649440" y="1314360"/>
            <a:ext cx="812160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 algn="just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В состав программного комплекса входят программные модули, предназначенные для автоматизированного решения наиболее сложных и трудоемких задач организационно-технологического проектирован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Для решения графических задач в программных модулях используется система AutoCAD компании Autodesk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или система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BricsCAD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компании Bricsys NV. С помощью CAD-системы выполняются графические построения и формируется выходная документация с использованием баз данных программного комплекс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Решение расчетных задач базируется на применении СУБД и различных математических методов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Дополнительная исходная информация, необходимая для работы программных модулей, содержится в технологических справочниках программного комплекс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рограммные модули обеспечивают решение задач, влияющих на уровень технологической дисциплины в реальных условиях стройки  и которые являются предметом контроля состояния строительного объекта и строительной площадки со стороны проверяющих органов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1563840" y="241200"/>
            <a:ext cx="657684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cc00"/>
                </a:solidFill>
                <a:latin typeface="Times New Roman"/>
              </a:rPr>
              <a:t>Автоматизация разработки разделов и задач ПОС и ППР с использованием программных модулей в </a:t>
            </a: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CAD</a:t>
            </a:r>
            <a:r>
              <a:rPr b="1" i="1" lang="ru-RU" sz="2600" spc="-1" strike="noStrike">
                <a:solidFill>
                  <a:srgbClr val="ffcc00"/>
                </a:solidFill>
                <a:latin typeface="Times New Roman"/>
              </a:rPr>
              <a:t>-системе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32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2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/>
          <p:nvPr/>
        </p:nvSpPr>
        <p:spPr>
          <a:xfrm>
            <a:off x="676440" y="5718240"/>
            <a:ext cx="8121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С помощью CAD-системы выполняются графические построения и формируется выходная документация с использованием баз данных программного комплекса. Имеется возможность настройки свойств (слоев, стилей и типов линий) графических построений, выполняемых с помощью программных модулей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4"/>
          <a:stretch/>
        </p:blipFill>
        <p:spPr>
          <a:xfrm>
            <a:off x="820800" y="1641600"/>
            <a:ext cx="3647880" cy="3919320"/>
          </a:xfrm>
          <a:prstGeom prst="rect">
            <a:avLst/>
          </a:prstGeom>
          <a:ln w="0">
            <a:noFill/>
          </a:ln>
        </p:spPr>
      </p:pic>
      <p:pic>
        <p:nvPicPr>
          <p:cNvPr id="330" name="" descr=""/>
          <p:cNvPicPr/>
          <p:nvPr/>
        </p:nvPicPr>
        <p:blipFill>
          <a:blip r:embed="rId5"/>
          <a:stretch/>
        </p:blipFill>
        <p:spPr>
          <a:xfrm>
            <a:off x="5097600" y="1647720"/>
            <a:ext cx="3563640" cy="392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1563840" y="165240"/>
            <a:ext cx="6576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Технологические справочники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00"/>
                </a:solidFill>
                <a:latin typeface="Times New Roman"/>
              </a:rPr>
              <a:t>Строительная техник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334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35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6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676440" y="5997600"/>
            <a:ext cx="8121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Справочник содержит перечень наименований марок строительной техники, структурированных по основным видам техники. По маркам техники приводится их техническое описание, фото, схемы устройств и чертежи в формате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WG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4"/>
          <a:stretch/>
        </p:blipFill>
        <p:spPr>
          <a:xfrm>
            <a:off x="1461960" y="1133640"/>
            <a:ext cx="6672240" cy="479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1563840" y="114480"/>
            <a:ext cx="6576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Технологические справочники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00"/>
                </a:solidFill>
                <a:latin typeface="Times New Roman"/>
              </a:rPr>
              <a:t>Типы временных ограждени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344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45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6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4"/>
          <a:stretch/>
        </p:blipFill>
        <p:spPr>
          <a:xfrm>
            <a:off x="1165320" y="1074600"/>
            <a:ext cx="7223040" cy="486252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>
            <a:off x="676440" y="6048360"/>
            <a:ext cx="8121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Справочник содержит перечень наименований типов ограждений, их графическое представление и список материалов, необходимых для устройства ограждения данного типа, включая нормы расхода на 100 м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1563840" y="241200"/>
            <a:ext cx="657684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Технологические справочники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00"/>
                </a:solidFill>
                <a:latin typeface="Times New Roman"/>
              </a:rPr>
              <a:t>Нормы расхода воды на производственные нужд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354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55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6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676440" y="5718240"/>
            <a:ext cx="812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Справочник содержит нормы расхода воды на производственные нужды по потребителям в литрах на единицу в смену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4"/>
          <a:stretch/>
        </p:blipFill>
        <p:spPr>
          <a:xfrm>
            <a:off x="509760" y="1560600"/>
            <a:ext cx="8124480" cy="406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1563840" y="241200"/>
            <a:ext cx="657684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Технологические справочники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00"/>
                </a:solidFill>
                <a:latin typeface="Times New Roman"/>
              </a:rPr>
              <a:t>Нормы потребности в электроэнергии на строительную технику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364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65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6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368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676440" y="5718240"/>
            <a:ext cx="812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Справочник содержит нормы потребности в электроэнергии на строительную технику в кВт на единицу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4"/>
          <a:stretch/>
        </p:blipFill>
        <p:spPr>
          <a:xfrm>
            <a:off x="752400" y="1697040"/>
            <a:ext cx="7734240" cy="378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1563840" y="241200"/>
            <a:ext cx="657684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Технологические справочники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00"/>
                </a:solidFill>
                <a:latin typeface="Times New Roman"/>
              </a:rPr>
              <a:t>Параметры осветительных установок общего равномерного освещения при нормируемой освещенности 2 л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3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374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75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6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378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/>
          <p:nvPr/>
        </p:nvSpPr>
        <p:spPr>
          <a:xfrm>
            <a:off x="676440" y="5718240"/>
            <a:ext cx="812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Данный справочник предназначен для учета параметров осветительных установок общего равномерного освещения строительных площадок при нормируемой освещенности 2 лк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4"/>
          <a:stretch/>
        </p:blipFill>
        <p:spPr>
          <a:xfrm>
            <a:off x="1122480" y="2004840"/>
            <a:ext cx="7103880" cy="3630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1563840" y="241200"/>
            <a:ext cx="657684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Технологические справочники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00"/>
                </a:solidFill>
                <a:latin typeface="Times New Roman"/>
              </a:rPr>
              <a:t>Марки грузов и грузозахватные приспособления для разгрузки и монтаж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384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85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6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388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676440" y="5718240"/>
            <a:ext cx="812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Справочник содержит перечень марок грузов и грузозахватных приспособлений для их разгрузки и монтаж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4"/>
          <a:stretch/>
        </p:blipFill>
        <p:spPr>
          <a:xfrm>
            <a:off x="1649520" y="1581120"/>
            <a:ext cx="6427800" cy="395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1563840" y="241200"/>
            <a:ext cx="6576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Технологические справочники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00"/>
                </a:solidFill>
                <a:latin typeface="Times New Roman"/>
              </a:rPr>
              <a:t>Нормы складирования материалов и издели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394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95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6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398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/>
          <p:nvPr/>
        </p:nvSpPr>
        <p:spPr>
          <a:xfrm>
            <a:off x="676440" y="5718240"/>
            <a:ext cx="812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Справочник содержит перечень норм складирования количества материалов и изделий, укладываемых на 1 м2 площади склада (без учета проходов и проездов) и норм запас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4"/>
          <a:stretch/>
        </p:blipFill>
        <p:spPr>
          <a:xfrm>
            <a:off x="792000" y="1352520"/>
            <a:ext cx="8033040" cy="414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1563840" y="8892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Обоснованная структура разделов и задач для разработки ПОС и ППР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24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25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6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676440" y="5364000"/>
            <a:ext cx="81216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Для каждого из основных видов строительства разработана структура разделов и задач ПОС и ППР. Для каждого раздела и задачи приведены соответствующие нормативные, методические документы и примеры выполненных разработок. Решения типовых задач реализованы в программных модулях, обеспечивающих выполнение необходимых расчетов, графических построений и формирование текстовой документации. Перечень разделов и задач ПОС и ППР содержит около 500 наименований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1376280" y="1082520"/>
            <a:ext cx="6834240" cy="424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1563840" y="241200"/>
            <a:ext cx="6576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Технологические справочники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00"/>
                </a:solidFill>
                <a:latin typeface="Times New Roman"/>
              </a:rPr>
              <a:t>Схемы складирован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404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405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6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408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/>
          <p:nvPr/>
        </p:nvSpPr>
        <p:spPr>
          <a:xfrm>
            <a:off x="676440" y="5718240"/>
            <a:ext cx="812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Справочник содержит перечень  схем складирования материалов и изделий с графическими изображениями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4"/>
          <a:stretch/>
        </p:blipFill>
        <p:spPr>
          <a:xfrm>
            <a:off x="1295280" y="1243080"/>
            <a:ext cx="6950160" cy="442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1563840" y="241200"/>
            <a:ext cx="6576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Технологические справочники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00"/>
                </a:solidFill>
                <a:latin typeface="Times New Roman"/>
              </a:rPr>
              <a:t>Виды строительных грунт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414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415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6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1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592280" cy="762120"/>
          </a:xfrm>
          <a:prstGeom prst="rect">
            <a:avLst/>
          </a:prstGeom>
          <a:ln w="0">
            <a:noFill/>
          </a:ln>
        </p:spPr>
      </p:pic>
      <p:pic>
        <p:nvPicPr>
          <p:cNvPr id="418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/>
          <p:nvPr/>
        </p:nvSpPr>
        <p:spPr>
          <a:xfrm>
            <a:off x="676440" y="5718240"/>
            <a:ext cx="8121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Справочник содержит перечень видов грунтов с указанием плотности, коэффициента разрыхления, группы грунтов в зависимости от трудности их разработки механизированным способом одноковшовыми экскаваторами, скреперами, бульдозерами и грейдерами, максимально допустимой крутизны откос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0" name="" descr=""/>
          <p:cNvPicPr/>
          <p:nvPr/>
        </p:nvPicPr>
        <p:blipFill>
          <a:blip r:embed="rId4"/>
          <a:stretch/>
        </p:blipFill>
        <p:spPr>
          <a:xfrm>
            <a:off x="689040" y="1293840"/>
            <a:ext cx="8172360" cy="429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1563840" y="8892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Нормативно-методическа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основа разработок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34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5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6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676440" y="5199120"/>
            <a:ext cx="81216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Предоставляется удобный доступ к нормативным, справочно-методическим документам, текстовым, цифровым, табличным и графическим материалам. Принцип поиска нужных материалов - идем от конкретной задачи структурированного перечня. Следует подчеркнуть простоту поиска материалов с использованием электронных закладок; проектировщику требуется только задать нужный ему раздел/задачу и все соответствующие материалы будут в его распоряжении. Таким образом, проектировщик, решая конкретную задачу, имеет возможность использовать все имеющиеся по данной задаче материалы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4"/>
          <a:stretch/>
        </p:blipFill>
        <p:spPr>
          <a:xfrm>
            <a:off x="1495440" y="1041480"/>
            <a:ext cx="6680160" cy="411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1563840" y="241200"/>
            <a:ext cx="6576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Электронный технический архив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00"/>
                </a:solidFill>
                <a:latin typeface="Times New Roman"/>
              </a:rPr>
              <a:t>Объект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44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5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6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676440" y="5699160"/>
            <a:ext cx="8121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Программный комплекс предоставляет возможность создавать, вести и использовать для повседневной работы электронный технический архив. В архиве можно регистрировать объекты и всю проектную документацию по ним, выбирать объект для последующей работы с ним, продолжать работу над документами по объекту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666720" y="1128600"/>
            <a:ext cx="7985160" cy="453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1563840" y="241200"/>
            <a:ext cx="6576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Электронный технический архив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00"/>
                </a:solidFill>
                <a:latin typeface="Times New Roman"/>
              </a:rPr>
              <a:t>Регистрация объект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54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55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6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676440" y="4613400"/>
            <a:ext cx="8121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Для регистрации нового объекта необходимо ввести его наименование и задать вид объекта. Кроме этого, можно автоматически создать для нового объекта  структуру разделов и задач ПОС и ППР на основе соответствующего справочника со всей информацией (включая файлы примеров, нормативных материалов, методик и т.п.), относящейся к решаемым задачам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4"/>
          <a:stretch/>
        </p:blipFill>
        <p:spPr>
          <a:xfrm>
            <a:off x="1643040" y="1395360"/>
            <a:ext cx="6351480" cy="299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1563840" y="241200"/>
            <a:ext cx="657684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cc00"/>
                </a:solidFill>
                <a:latin typeface="Times New Roman"/>
              </a:rPr>
              <a:t>Электронный технический архив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cc00"/>
                </a:solidFill>
                <a:latin typeface="Times New Roman"/>
              </a:rPr>
              <a:t>Разделы</a:t>
            </a:r>
            <a:r>
              <a:rPr b="1" i="1" lang="en-US" sz="2400" spc="-1" strike="noStrike">
                <a:solidFill>
                  <a:srgbClr val="ffcc00"/>
                </a:solidFill>
                <a:latin typeface="Times New Roman"/>
              </a:rPr>
              <a:t>/</a:t>
            </a:r>
            <a:r>
              <a:rPr b="1" i="1" lang="ru-RU" sz="2400" spc="-1" strike="noStrike">
                <a:solidFill>
                  <a:srgbClr val="ffcc00"/>
                </a:solidFill>
                <a:latin typeface="Times New Roman"/>
              </a:rPr>
              <a:t>задачи и документы ПОС и ППР по объекту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64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65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6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676440" y="6124680"/>
            <a:ext cx="812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В электронном техническом архиве по объекту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можно регистрировать проектные документы отдельно по каждому разделу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задаче ПОС и ППР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4"/>
          <a:stretch/>
        </p:blipFill>
        <p:spPr>
          <a:xfrm>
            <a:off x="660240" y="1654200"/>
            <a:ext cx="8158320" cy="440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1563840" y="241200"/>
            <a:ext cx="657684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Электронный технический архив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00"/>
                </a:solidFill>
                <a:latin typeface="Times New Roman"/>
              </a:rPr>
              <a:t>Регистрация проектного документа по объекту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74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75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6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4"/>
          <a:stretch/>
        </p:blipFill>
        <p:spPr>
          <a:xfrm>
            <a:off x="1305000" y="1668600"/>
            <a:ext cx="6927840" cy="31892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676440" y="5006880"/>
            <a:ext cx="812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Для регистрации проектного документа по объекту необходимо выбрать раздел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задачу, к которой он относится,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ввести наименование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документа и указать на файл документ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1563840" y="241200"/>
            <a:ext cx="6576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Электронный технический архив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00"/>
                </a:solidFill>
                <a:latin typeface="Times New Roman"/>
              </a:rPr>
              <a:t>Показатели по объекту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84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85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6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>
            <a:off x="676440" y="6048360"/>
            <a:ext cx="8121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Программный комплекс обеспечивает возможность ввода и хранения в электронном техническом архиве по объекту пользовательских показателей и показателей программных модулей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4"/>
          <a:stretch/>
        </p:blipFill>
        <p:spPr>
          <a:xfrm>
            <a:off x="1257480" y="1190520"/>
            <a:ext cx="7043400" cy="475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1563840" y="279360"/>
            <a:ext cx="6576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Электронный технический архив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00"/>
                </a:solidFill>
                <a:latin typeface="Times New Roman"/>
              </a:rPr>
              <a:t>Строительная техника на объект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94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95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6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676440" y="5489640"/>
            <a:ext cx="81216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Программный комплекс обеспечивает возможность ввода и хранения в электронном техническом архиве по объекту списка строительной техники с указанием ее количества по каждой марке. Список техники формируется с использованием справочника строительной техники или вручную.  Обеспечивается возможность печати ведомости потребности в основных строительных машинах и механизмах на объекте.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4"/>
          <a:stretch/>
        </p:blipFill>
        <p:spPr>
          <a:xfrm>
            <a:off x="1036800" y="1371600"/>
            <a:ext cx="7538760" cy="39625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8T10:55:39Z</dcterms:created>
  <dc:creator/>
  <dc:description/>
  <dc:language>en-US</dc:language>
  <cp:lastModifiedBy>-</cp:lastModifiedBy>
  <dcterms:modified xsi:type="dcterms:W3CDTF">2015-09-04T07:54:58Z</dcterms:modified>
  <cp:revision>262</cp:revision>
  <dc:subject/>
  <dc:title>Слайд 1</dc:title>
</cp:coreProperties>
</file>