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BED-5370-4453-9888-73AA97A7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F23-CD77-43DD-81BD-4032E1E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4EE-4CE5-4ACB-8162-11CE84D2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62C-47FD-4FDE-8CDB-92EC2E20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845-61CF-4917-847D-5CF15A0C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38F5-2CEB-49E2-92F2-AD9639FA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C5DA-6ED0-4B68-9CA6-F5A7A364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363A-1355-4587-89DA-881E2093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216-A17C-4672-A536-BB3A3B9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018E-A910-4B79-BCF8-FA49BFBA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A36-E220-4F6F-9DB9-FA5FE9C9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EFF-BBDA-4890-9007-26784236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FD3B-0236-408A-B9C1-5EE89F2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42E0-0C58-451D-800D-E4A5508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5DAC-91A3-41FC-9F9B-FE852DDC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8931-5AF7-4EC9-8994-4C8DF591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1E71-D417-4280-82E1-DB96622E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86B-F738-45CA-95D9-C0EF2843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B97-06A5-4660-874D-5B497D94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34B-F7C2-476C-A6DD-970A728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05B-E1E1-4DC2-BF7A-A71B8B5D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3AD-DC75-4346-AA1D-A774F5A7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279-0D52-4826-BBD6-C7AFF58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1CB-6803-4277-A1E1-20969F2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D407-74BD-4B59-A63C-D01E623419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D290-9BDF-41D2-A027-AF1608CE0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Схемы строповки груз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набора используемых грузов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в зависимости от типа и массы груза соответствующих схем строповки и грузозахватных приспособлений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: набора схем строповки, таблицы грузов, таблицы грузозахватных приспособлений, текста примеч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ется база данных грузов, в которой для каждого типа и марки груза содержится схема строповки и наборы грузозахватных приспособлений при разгрузке и монтаж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323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сформировать набор грузов для вставки соответствующих схем и таблиц в чертеж. Имеется возможность сохранить набор грузов для его дальнейшего использования, в том числе и в программном модуле 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кран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54080" y="890640"/>
            <a:ext cx="5772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схемы стропов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369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на чертеже группируются в бло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93800" y="1501920"/>
            <a:ext cx="7785000" cy="37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аблицы грузов и грузозахватных приспособл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4007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вставки в чертеж таблиц грузов и грузозахватных приспособ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20640" y="3054240"/>
            <a:ext cx="8256600" cy="2212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2309760" y="1347840"/>
            <a:ext cx="484812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кст примеча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340000" y="973080"/>
            <a:ext cx="4948200" cy="512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2:51:30Z</dcterms:modified>
  <cp:revision>261</cp:revision>
  <dc:subject/>
  <dc:title>Слайд 1</dc:title>
</cp:coreProperties>
</file>