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1D39-DF35-43AA-ABCF-06635E33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880-3BFF-43EE-BA36-48524785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48F-F474-437E-9D33-5D99B448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CCD-DF70-4BCD-9B23-F1D1954A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1974-68F3-4F79-9E4A-97C0DDA1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38C4-DA7E-46BE-A66D-6E8536C4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87E0-D2B7-470A-BDD7-FF805ADE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60E7-D68D-429E-88EE-79EB416E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E2FE-2D5D-4702-A0CA-AB9CED1A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6FA3-B39A-4B4B-829B-C7B53CCD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898A-218F-4EBD-A11C-7859A0C7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DA2-E3A8-4440-BAC5-F6922791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8655-A90D-454A-942C-48F799C7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CAE8-9DBE-44CB-8BD1-A0530973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C786-3A55-40FC-9222-D30B35A9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1418-9B78-4E8D-B493-844F1680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1CB0-93DE-42AE-BDDA-C29A5BD8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65D-9857-438A-B421-836AD45E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604-727B-4E91-92F4-81CEA654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F98-D449-4D5D-9F0E-5D5E83FF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718-B9DD-4BEC-9FCB-8273C7BF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60E1-19BA-4C8A-B340-D2BFBBF0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D15-CF87-41E4-BAE3-1B1CF067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DDA-C6A2-4D60-9AA3-55C663D7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74EA-7C21-4E99-BD2B-10EC531621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D6AC-FF58-4AB9-AE6E-7EFEF0B6AF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Геодезический и лабораторный контроль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2840"/>
            <a:ext cx="812160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документации, отражающей вопросы организации службы геодезического и лабораторного контроля качества строительно-монтажных работ, включая примерные положения о геодезической службе в строительстве и о строительной лаборатор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нужным образом отредактировать отобранный материал и оформить его в виде необходимого докумен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актуальн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131840" y="1552680"/>
            <a:ext cx="736272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90520" y="1630440"/>
            <a:ext cx="692784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676520" y="1298520"/>
            <a:ext cx="6370560" cy="32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15764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документацию, отражающую вопросы организации службы геодезического и лабораторного контроля качества строительно-монтажных работ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933560" y="1400040"/>
            <a:ext cx="5780160" cy="249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9-04T11:54:30Z</dcterms:modified>
  <cp:revision>258</cp:revision>
  <dc:subject/>
  <dc:title>Слайд 1</dc:title>
</cp:coreProperties>
</file>