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FB7-6015-4827-9081-B85A480D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191-4116-4759-ABA5-A2F84F54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014-DFC5-4728-8604-B7A0B9A9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A50-B94E-4D57-BA17-D4043723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2AD6-912A-4A78-8340-AF369B53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E9A5-CBD6-4146-B43D-FC4F7B9C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BF39-5D71-43BF-A422-A7974F51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A79B-5594-4F53-9B44-8DA55D88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3D22-55AF-4266-86BB-9E2E6862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529C-324F-4944-B062-E970A426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AE95-1D94-48F4-9C49-5D43D12D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65D-7796-4A83-B789-17F38A75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EE8A-A85C-44CA-A017-8EFBAB5E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0D61-BA73-4026-9689-69798A22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90E3-3A3C-49FA-8230-64C3F51F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AA16-723D-401E-AD1F-D415887B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57F0-294E-4DFD-BC2C-EC6FB937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D38-C22D-461C-B803-4990854B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995-EA95-44D9-9414-49FB0214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A69-A22A-4F5F-B047-E2CA4C08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AF4-4D16-4B58-8AA8-B35F1415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FA7-F9CA-4968-A10F-8B7A2ECF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0D6-8574-4A87-B7BD-651BD5E8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A65-C244-4A81-BB68-9317FB4A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0D4E-2349-4DFA-AACA-9B3961AD20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B917-B617-4DB8-88AA-9C4D425526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Охрана окружающей среды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фрагментов пояснительной записки ПОС и ППР в части мероприятий по охране окружающей среды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привязать к конкретному объекту и оформить в виде пояснительной записки информацию по следующей тематике: общие требования к мероприятиям по охране окружающей среды; состав и содержание перечня мероприятий по охране окружающей среды; общие экологические требования к обустройству и содержанию строительных площадок; экологические требования к временным сооружениям; оборудование пунктов мойки колес; экологические требования к внутриплощадочным дорогам; инженерным сетям и складским площадкам; экологические требования к производству земляных работ; требования к процессу перемещения грунта и отходов; требования к уборке мусора при производстве строительно-монтажных работ; требования  при сносе зданий и сооружений и ликвидации коммуникаций; создание и охрана зеленых насаждений и по другим аналогичным темам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нов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6012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42840" y="996840"/>
            <a:ext cx="735660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90520" y="1719360"/>
            <a:ext cx="692784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371600" y="1298520"/>
            <a:ext cx="637056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424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фрагмент пояснительной записки ПОС и ППР в части мероприятий по охране окружающей среды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603440" y="1463760"/>
            <a:ext cx="6265800" cy="269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4-10-15T10:11:19Z</dcterms:modified>
  <cp:revision>245</cp:revision>
  <dc:subject/>
  <dc:title>Слайд 1</dc:title>
</cp:coreProperties>
</file>