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B6E-970D-489B-BB7E-12FA240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ACE-2BE6-41AC-9949-BCE3AF6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63E-D9C3-4E07-A2ED-6CECF9E6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6E8-DBA7-4FBD-AE19-CBE99575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40D2-B32A-4304-A6E1-A5EED6B9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498C-6A9C-4AEB-8306-D3C949E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539D-9D99-4AB1-8BAE-8BCEBE78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F896-D2D8-4BF3-A42F-577AE670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25B-2229-4ABB-9584-3605505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053-ABB1-4A89-914A-4E9DE20F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B9F1-831F-4437-B40C-707205F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F68-6B34-44C9-B9DB-4F725DB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0C70-48F9-4BF7-891C-8D38617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FD21-47A5-4DB1-B631-69C1A21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C37-EA8A-4EC3-A2BD-8227489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FD7-1A99-41FA-91A7-4A76BFB9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A0B5-6BF7-46CE-9C86-036BB75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62A-EFC0-4A0B-9F73-9E12A05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6B7-55CE-4183-B700-781D37CA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06B-160C-4169-B9C6-FA6468F3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94A-41C5-4506-8D1D-95AD432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510-D0E6-4684-B7C0-3E1C1F5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F00-37E1-4E9A-B452-2D7A7F9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17C-3F90-44C1-BDA2-42675CB2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2FB-E05B-47FE-A93C-5B3000C95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5AB4-66C7-408D-A671-956EBF303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ое планирование производства работ» (ПП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шинах и механизм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82087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47640" y="11592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движе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чих кадров по объект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28720" y="1125360"/>
            <a:ext cx="79912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93760"/>
            <a:ext cx="812160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производства работ по возведению здания, сооружения или его части на уровне документации для П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ляемом календарном плане производства работ устанавливаются последовательность и сроки выполнения работ с максимально возможным их совмещением. Исходной информацией для календарного плана служат показатели сметных расчетов: перечень работ, необходимые для выполнения работ ресурсы, трудоемкость выполнения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ном модуле реализованы простые и эффективные способы взаимоувязки выполняемых работ, что дает возможность легко и быстро построить сетевую модель и оптимизировать продолжительность выполнения работ для различных вариантов их выполнения. Предусмотрена возможность учета фактически выполненного объема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формировать документы, предусмотренные составом и содержанием ППР: календарный план производства работ, графики потребности в материалах, машинах и механизмах, графики движения рабоче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ксимальное использование результатов сметных расче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373720"/>
            <a:ext cx="81216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ализован импорт информации из сметных программ: в формате единого блока обмена АРПС 1.10 и в формате программы "Гектор: Сметчик-строитель". В программу календарного планирования автоматически загружается перечень работ из сметы, необходимые для выполнения каждой работы ресурсы, трудоемкость выполнения рабо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подключения любой сметно-нормативной базы данных и/или создания собственной базы дан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87280" y="981000"/>
            <a:ext cx="6624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тевая модель 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5166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стые и эффективные способы взаимоувязки работ позволяют легко и быстро построить сетевую модель. Можно задавать условия начала работы в зависимости от процента выполнения или количества дней после начала/до окончания какой-либо из взаимосвязанных работ календарного пла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19280" y="1000080"/>
            <a:ext cx="609588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31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Диаграмма Га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1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водить многовариантные расчеты сетевой модели (критического пути, резервов времени) с оптимизацией по продолжительности выполнения работ при изменении количества машин и механизмов, составов бригад, технологических схем производства работ и других парамет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19280" y="838080"/>
            <a:ext cx="61214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мпорт объемов выполнен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11280" y="5661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вод фактического выполнения объемов работ возможен посредством импорта актов выполненных работ из программ сметных расчетов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 и ручной ввод фактических объемов для работы или группы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6193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ногоуровневые календарные пла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5805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многоуровневых вложенных календарных планов производства работ дает необходимую степень детализации календарных планов и возможность объединять календарные планы для управления ресурсами на уровне строительной организа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календарного пла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7920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териал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57080" y="1125360"/>
            <a:ext cx="7991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1:33Z</dcterms:created>
  <dc:creator/>
  <dc:description/>
  <dc:language>en-US</dc:language>
  <cp:lastModifiedBy>-</cp:lastModifiedBy>
  <dcterms:modified xsi:type="dcterms:W3CDTF">2013-06-24T11:55:47Z</dcterms:modified>
  <cp:revision>188</cp:revision>
  <dc:subject/>
  <dc:title>Слайд 1</dc:title>
</cp:coreProperties>
</file>