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15C-7998-4B58-8ADC-70A5FF58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F27-633E-4502-BDE1-EF5FA16C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CED-80B9-4CD9-B5E4-1DD37229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C60-BD8D-46B7-973D-02C7EC9D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E369-848C-402D-B625-59BB677D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E4DD-ECBE-4E6B-8172-3B14A313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468C-612C-45C7-985C-3C3A52A6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B43F-B5F3-474B-B80C-33D3109C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5EFB-831C-44BB-88FE-BF51C171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7BDF-A326-44C1-AA4A-B4A0A95B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EEF2-1D4D-43F4-B841-AE1660BC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6EB-8F3B-4A20-94D9-B01705DC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97EC-BC18-45BE-A03E-027E3E34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13BA-D149-48A2-A29F-239A43E4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1DC1-9860-4C0F-8EA2-84C7DBB8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47C8-A19E-447C-A535-9160246C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8D4C-5CE0-481E-85B0-FB1357B3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107-CDFF-48C9-847D-C84E3EDF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CF7-BCB3-43C4-AE9B-89280C87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F05-97B6-448B-9BFB-DE7B6272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9B1-0566-42FA-AE34-70318174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0F1-1C30-48BE-8B85-F5540488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676-3FE7-4190-B974-6558B79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6C4-30FC-40AF-B331-A35BEE3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7097-F0AB-4BB5-A2E9-DBCC7A7823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78B5-1C44-4D98-B650-F55F49DCD3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кран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оны ограничения работы кр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92080" y="48560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указать зоны ограничения работы крана по углу и вылету, вычертить зоны предупреждения и проставить координаты вершин зон ограничения относительно указанных пользователем точек отсчет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2220840" y="1114560"/>
            <a:ext cx="5027760" cy="34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зоны ограничения работы крана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1319040" y="1380960"/>
            <a:ext cx="682020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башенных, автомобильных, пневмоколесных, гусеничных и железнодорожных кранов с учетом их исполнений и стрелового оборудования по грузоподъемности, высоте подъема, вылету, параметрам грузов и грузозахватных приспособлений, а также с учетом безопасного приближения крана (рельсового пути) к зданиям и препятствиям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изображений крана в плане и разрезе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 опасной и рабочей зон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формирования отчета по расчету опасной зоны выбранного кран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ычерчивания графика грузовысотных характеристик выбранного кран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автоматизированного формирования фрагментов пояснительной записки  ПОС и ППРк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73080" y="54468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осуществлять выбор крана, построение на чертеже изображений крана в плане и разрезе, включая построение  опасной и рабочей зон, вычерчивание графика грузовысотных характеристик и автоматизированное формирование фрагментов пояснительной записки  ПОС и ППР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522520" y="905040"/>
            <a:ext cx="462924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кр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58880" y="561672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ыбор башенных, автомобильных, пневмоколесных, гусеничных и железнодорожных кранов производится с учетом их исполнений и стрелового оборудования по грузоподъемности, высоте подъема, вылету, параметрам грузов и грузозахватных приспособлений, а также с учетом безопасного приближения крана (рельсового пути) к зданиям и препятствия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719360" y="858960"/>
            <a:ext cx="562932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дания и препятств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98480" y="3498840"/>
            <a:ext cx="758988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осуществлять проверку кранов с учетом точки стоянки и списка препятств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каждого препятствия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ются его название и тип, а также высота и разность между нулевыми отметками стоянки крана и здания. После добавления препятствия в список и указания его параметров, можно указать контур препятствия на чертеже или начертить его самостоятельн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884320" y="968400"/>
            <a:ext cx="37720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крана по параметрам гру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35000" y="5543640"/>
            <a:ext cx="7589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дбор кранов может осуществляться на основании параметров одного или нескольких грузов. Пользователь может сформировать список грузов вручную или загрузить его из предварительно сохраненного набора, в том числе сформированного в программном модул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хемы строповки груз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140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33960" y="19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4838760" y="1219320"/>
            <a:ext cx="3930480" cy="4047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520560" y="1219320"/>
            <a:ext cx="3875400" cy="40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крана в план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838080" y="5997600"/>
            <a:ext cx="758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зображение башенных кранов в плане строится с подкрановыми путями, при этом дополнительное место стоянки может вставляться в произвольной точке подкрановых путей. Для всех типов кранов вычерчиваются линии границы опасной и рабочей зон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806400" y="933480"/>
            <a:ext cx="4200480" cy="4781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5122800" y="933480"/>
            <a:ext cx="34750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е крана</a:t>
            </a: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в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38080" y="58197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ид в разрезе любого из кранов может быть вставлен в чертеж с заданием дополнительных параметров изображения (штриховой вид, привязка к зданию, подкрановые пути, вылет стрелы, рабочая и опасная зоны и т.д.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530280" y="1060560"/>
            <a:ext cx="4219560" cy="45338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4805280" y="1057320"/>
            <a:ext cx="410688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рафик грузоподъемности и высоты подъема кр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68240" y="6129360"/>
            <a:ext cx="777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сех кранов возможно построение графика грузоподъемности и высоты подъема крюка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2543040" y="1201680"/>
            <a:ext cx="4272120" cy="475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6T13:53:39Z</dcterms:modified>
  <cp:revision>324</cp:revision>
  <dc:subject/>
  <dc:title>Слайд 1</dc:title>
</cp:coreProperties>
</file>