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481-F41E-45DB-8065-5DF6F5FD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4A0-C144-45E5-9D5D-2081644A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BE5-E735-4CC0-9A1C-738C60D8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4E4-A569-4137-AB91-9BE2A1DA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9C2F-3829-493E-BCB9-837F105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CBD-4040-4775-A298-2C78345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8553-9FC0-458C-816C-45D2759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2CA-6266-4904-BD02-F197BBC3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BD15-03AD-49B2-B14B-3CF7A9C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ED45-D974-4DA4-BE40-0E7DBF3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5E3-A7DF-4ED6-A58B-B623D04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188-0820-4FBB-86FD-EDCE9DC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F75-EB27-4E34-ADD4-2C6E2AE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EF7-D248-4315-84B5-2A2E40D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D818-D54F-4070-AAEF-8880A7D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87F6-C95C-4313-96AA-AF5024AF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1DDF-4D5D-41EB-9B33-FAF8149A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855-E50B-4751-B64C-78AFCDAA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B1C-EA95-4711-9BF0-AA7EB159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445-4F99-4ED3-BC8E-650E4BD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484-1D85-4B74-9B7A-BD54AB51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CCA-C949-49AC-BD3C-AB45D28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C7C-7D60-4893-A30E-490159D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612-FD27-4824-8BC5-ED654D8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74C-7DD2-4F9C-BCF6-59FE21FF2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356D-B91A-4CCA-A8FF-EE5338241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 инвентарных здания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условных обозначений элементов бытового город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43040" y="4518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мимо изображения бытового городка в чертеж можно также вставить различные условные обозначения и знаки. Предусмотрена возможность дополнения таблицы экспликаций выбранным знако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766880" y="1425600"/>
            <a:ext cx="59421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инвентарных (временных административно-бытовых) зданиях и сооружениях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формированного набора инвентарных зд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 производится исходя из численности работающих или из стоимости СМР на одного работающего. В результате работы программного модуля формируется перечень необходимых инвентарных зданий с обоснованием расчета и осуществляется размещение сформированного набора зданий и сооружений на стройгенплане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96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потребности необходимо указать общую численность работающих, вид строительства и площадь участка. Площадь можно ввести вручную или получить из чертежа, указав контур площадк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46240" y="947880"/>
            <a:ext cx="54910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отребности в инвентарных здания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6674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варительный расчет потребности в инвентарных зданиях производится в автоматическом режиме. Количество и тип зданий в каждой из категорий можно изменить отде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35280" y="1339920"/>
            <a:ext cx="600696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тировка списка инвентарных зда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03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каждой из категорий можно добавлять и удалять инвентарные здания различных типов для удовлетворения рассчитанного количества рабочих. Также предусмотрены функции блокировки зданий и добавления пользовательского зд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11240" y="1441440"/>
            <a:ext cx="59389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хемы блокировки инвентарных зда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17860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нвентарные здания можно группировать в блоки из нескольких этаж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824200" y="136692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пользовательского инвентарного зд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43040" y="360360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случае необходимости, в список инвентарных зданий можно добавлять и другие здания с заданными пользователем параметрам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654200" y="1530360"/>
            <a:ext cx="654696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потребности в инвентарных здания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760840" y="1230480"/>
            <a:ext cx="400824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бытового городк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43040" y="58644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Бытовой городок строится на чертеже в автоматическом режиме с учетом минимального размера прохода между зданиями и наличием (отсутствием) дороги. В чертеж можно также вставить таблицу экспликации инвентарных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151080" y="1257480"/>
            <a:ext cx="3252960" cy="3252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976320" y="4743360"/>
            <a:ext cx="7226280" cy="98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9T13:52:54Z</dcterms:modified>
  <cp:revision>266</cp:revision>
  <dc:subject/>
  <dc:title>Слайд 1</dc:title>
</cp:coreProperties>
</file>