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1A1-A8BC-4703-97C2-C2D7A5DD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304-47D8-4AB6-AD80-6D14FB71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CF3-EC75-47A2-BFB4-E782B6A1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DE4-29B9-43EB-8CD8-FDF55827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C0AE-3651-4D82-A051-77E31B0E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5B2-128C-46B7-B620-FF615B23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E6F-46BF-4590-AAD5-019E6156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23E-9E22-4E65-B40D-4E893E12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E28D-D1B3-4A30-989E-0BD1A32E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8DD-18D2-473D-9276-6CE674AA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7454-E9CF-4DF8-97ED-EE08109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D0A-0F58-4CF9-BD04-87657CF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F000-846E-4186-A962-11BF9F0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7262-4150-4775-A128-44C8E0D8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C8BB-2F45-4166-9E88-FBE4256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4479-53CD-4348-9FBA-0C8C0B32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8D1C-E5F1-4161-AFB7-B3071C47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D6F-A353-4FBF-8A78-0900FED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10F-D83A-4955-AC6B-3EDEE19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AF5-1FE0-466C-BAFF-F655F420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DEB-8E95-4293-A9A6-70718C66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66B-87D9-4EAF-A3A5-39D9B09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995-1341-4C66-B85D-AE28256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A0A-45EF-492C-B1BC-65DC9E4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C4D-8097-4600-A4A7-A3483350BB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9C2-2274-4C85-8AD3-6B22600A9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жарная безопасност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9320"/>
            <a:ext cx="812160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работки и формирования фрагмента пояснительной записки ПОС и ППР в части мероприятий по противопожарной защи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ам пожарной безопасности на строящемся объекте; пожарная безопасность зданий и сооружений; системы противопожарной защиты; пожарная безопасность при проведении строительно-монтажных работ; требования к проведению пожароопасных работ; обеспечение безопасности людей при возникновении пожара; ответственность за организацию противопожарной защи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9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93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47894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6480" y="1343160"/>
            <a:ext cx="74246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0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579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322280" y="1347840"/>
            <a:ext cx="694224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4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183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46320" y="1380960"/>
            <a:ext cx="694980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922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24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противопожарной защите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79480" y="139392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39:52Z</dcterms:modified>
  <cp:revision>255</cp:revision>
  <dc:subject/>
  <dc:title>Слайд 1</dc:title>
</cp:coreProperties>
</file>