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DE5-9432-454D-8AD7-9EE20982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C03-2A47-4E21-BE03-B604F689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117-E193-431E-92D8-43EFA2C9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A35-86C6-45C7-A49E-DBE56DC3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367B-0CC7-4EE4-966A-13EAF433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248B-EAC0-41D1-A4B6-3B4DE3D5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5336-B254-4D15-9A27-0736F409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59D2-84FE-4389-9603-EBB11B87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515-8C96-4D03-B14E-6309DC21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1494-07B5-4660-8B10-47115032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ADCC-B6FD-4AA7-8B9D-6A17409F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3F8-82AC-4886-BCAB-3A52E742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1A74-CE26-43FF-B309-A783772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2D22-3212-408C-A082-6D87263B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C36B-E860-4630-8276-31F2D692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FF9-1593-41C6-A6A5-2D1D1882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F91C-DD7E-43A4-89A2-AFCC5DFA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A33-A4F4-49CB-899E-7C632026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674-12D8-4416-8D20-FE6F337C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057-2CBF-43E2-9F70-99D16A56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2E7-94DE-4415-982B-813BC0A1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5B6-E60B-4F71-B119-7133A325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C5D-F583-4E96-A86C-E3164EAF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BD5-33BC-426D-AB69-CB78CDC7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D5DE-9290-468B-A2DD-6884B57848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E86D-0A3E-4C38-A665-F381407966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люлек строительных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люлек строительных (фасадных подъемников) по требуемой грузоподъемности, высоте подъема и типу люльки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консолей по величине требуемого вылет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ых люлек строительных в разрезе и фасад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11360" y="5432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дбор люлек строительных по грузоподъемности, высоте подъема и типу, подбор консолей по величине выл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92400" y="1039680"/>
            <a:ext cx="5257800" cy="42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541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строительной люльк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857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изображения выбранной люльки и консоли на чертеже в разрезе и фасаде с указанием масштаба постро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801880" y="1289160"/>
            <a:ext cx="406260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строительной люльки на чертеже в разрезе и фасад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355760" y="1341360"/>
            <a:ext cx="6827760" cy="51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19:39Z</dcterms:modified>
  <cp:revision>236</cp:revision>
  <dc:subject/>
  <dc:title>Слайд 1</dc:title>
</cp:coreProperties>
</file>