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5AA-20BF-4020-8BF1-A9F16104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04D-8C84-4840-B20A-B5A7821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A3D-9E01-4ECA-A83B-960B1818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580-2786-40B6-8189-4663562A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5C9-4AFC-4EC0-BC9A-450C9794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EF7-C026-49E0-B219-D56E8C8C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BB4C-BF19-4216-BA24-44B54FC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62B4-6F70-444C-9DEF-04F302B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CCA-4822-4CA2-BF90-2FDAE316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7BD1-CEAE-4F60-BD45-E73C86F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9497-6EF7-4771-B7F5-A0DA9445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F10-79B6-4B9E-A2F2-959F7B8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1D52-66C4-4F0C-8BAA-FAD86BC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3B0E-26D7-426B-BA73-84667D76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18FF-4F1A-45AF-8387-33D3080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279-AA9A-4418-B424-BE996813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9AB1-13EF-4376-8DA7-AB9F54AA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FA0-FCBB-4371-B30A-32F58E5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73B-205F-4FC4-8AF1-3BF73601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2A9-5EEE-42BE-B32D-97822C6D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B8D-656C-4FB7-ACBD-189D700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BA7-3AE7-4B0C-B798-5BA6534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8AF-D9DB-4E74-88BC-50DBCBA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018-35CB-496D-9328-28756EF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6F99-2AC4-48D3-B014-53ACF6219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69B-E37A-4704-B7D3-9E40F9F22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котлов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пределения объемов земляных работ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ах котлованов с естественными откосами в плане и разрезах с учетом заданного рельефа местности и максимально возможной крутизны откос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формирования геологических разрезов (колонок грунтов) с выделением различных видов грунт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формирования ведомости объемов работ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съезд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баланса грунтов для предварительной вертикальной планиров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7261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формирование и построение на чертежах котлованов с естественными откосами с определением необходимых объемов земляных работ. Обеспечивается возможность построения котлованов в плане и разрезах, формирования ведомости объемов работ, построения съез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43320" y="893880"/>
            <a:ext cx="47466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5785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один или несколько контуров, образующих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Имеется возможность уточнить толщину слоев грунтов в каждой точке рельефа, а также рассчитать баланс грунтов для предварительной вертикальной планир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66840" y="871560"/>
            <a:ext cx="693108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539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структуру разрабатываемых грунтов с заданием перечня видов грунтов и толщин слоев. Обеспечивается вставка сформированного геологического разреза (колонки грунтов) в черте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08160" y="88596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022720"/>
            <a:ext cx="758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рельеф площадки путем задания узловых точек сетки осей с указанием отметок высот. При этом можно задать количество осей сетки рельефа и изменить размер площадки, на которой будет построена сетка рельефа. Минимальный контур площадки определяется автоматически. Для каждой заданной  точки рельефа имеется возможность  изменить толщины слоев геологического разреза (колонки грунтов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39680" y="1152360"/>
            <a:ext cx="4440240" cy="3440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673520" y="1158840"/>
            <a:ext cx="43149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127240" y="1292400"/>
            <a:ext cx="51674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а чертеже съезда в котлов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93800" y="47829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а может быть построен съезд. Съезд строится внутрь котлована перпендикулярно кромке. При построении съезда вычисляется его объем, который отображается в описании котлована и ведомости объемов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2280" y="2762280"/>
            <a:ext cx="803160" cy="396720"/>
          </a:xfrm>
          <a:prstGeom prst="rightArrow">
            <a:avLst>
              <a:gd name="adj1" fmla="val 50000"/>
              <a:gd name="adj2" fmla="val 50613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4836960" y="1535040"/>
            <a:ext cx="3990960" cy="2847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14440" y="2044800"/>
            <a:ext cx="33368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10-19T13:50:44Z</dcterms:modified>
  <cp:revision>358</cp:revision>
  <dc:subject/>
  <dc:title>Слайд 1</dc:title>
</cp:coreProperties>
</file>