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8B0-7E36-426F-BC96-A4FBBA0C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A8B5-F033-4A83-9292-CBAF0649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78B-F8DA-4F2F-9E15-B2CB437A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E6A-6660-474E-B960-C539B6BE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EF79-5A06-4ED1-9C39-43401AEE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778A-4D42-4DC9-95EE-ED38EDA7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6B42-83E6-46CA-97F3-BFF43724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F254-191B-4EFA-8322-F79EDABA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C8E8-537C-49AC-881C-B103080B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1ECB-FFD5-4F68-A6AC-E6D06B6D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22AF-907D-4E7F-88A6-054F3B61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E62-711B-4FC1-B074-E8127E68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E3B1-B906-4A7F-93DF-807AA3A8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27A1-3C6E-4C42-B6D3-96BE7CBF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5F76-4FA6-49F3-B966-256BF206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1598-C9E9-4F35-8788-CBB2F39D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8D56-A4AD-47C1-AB3B-BE784237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16D-0B43-4189-9FE6-9473332E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ED6-9714-4D89-A346-8016B959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5F9-CB88-400F-8A83-9C2BF919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0DF-77CF-47CE-BCFC-F67F4070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A24-006E-445E-AD37-D1985E60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3FA-BA8C-4E09-A8D9-980CFCAE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C67-DD00-409C-9AB1-6AA6FFD2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849F-F509-4CAB-BE06-D79239C9A8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B78C-6EB3-46EA-9642-A41B63C986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ременное освещени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определения необходимой освещенности строительной площадки и участков производства работ, подбора, расстановки и расчета необходимого количества источников света и потребной для их питания мощност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дбор и расчет осветительных установок производится для рабочего (общего равномерного, общего локализованного или местного), аварийного, эвакуационного и охранного освещения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Модуль обеспечивает автоматизированное формирование фрагментов пояснительной записки ПОС и ППР в части расчета временного освещения на строительной площадк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В программном модуле используются взаимосвязанные технологические справочники участков строительных площадок и работ, параметров осветительных  установок для разной нормируемой освещенности, типы прожекторов и ламп, минимально допустимая  высота установки прожекторов/светильников и т.д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39880" y="4929120"/>
            <a:ext cx="7589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пределить участки стройплощадки (производства работ) и ввести для каждого из них необходимые показатели по требуемым типам освещения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бщее равномерное освещение при нормируемой освещенности 2 лк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бщее равномерное освещение при нормируемой освещенности 0,5 лк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бщее локализованное (локальное) или местное освещен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аварийное освещен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эвакуационное освещен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хранное освеще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913040" y="809640"/>
            <a:ext cx="5846760" cy="40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Общее равномерное освещение строительной площад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76240" y="5454720"/>
            <a:ext cx="758988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одбора и расчета осветительных установок для общего равномерного освещения строительной площадки при нормируемой освещенности (2 или 0,5 лк) необходимо ввести список участков с нужным типом освещения. По каждому из участков задаются следующие показатели: нормируемая освещенность,  ширина и длина участка,  параметры осветительных установо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173320" y="1373040"/>
            <a:ext cx="49197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Локальное, аварийное, эвакуационное и охранное освещение строительной площад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76240" y="559440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одбора и расчета осветительных установок для локального, аварийного, эвакуационного или охранного освещения необходимо на соответствующей вкладке ввести список участков с нужным типом освещения. По каждому из участков задаются следующие показатели: тип участка, длина и ширина участка, параметры осветительных установок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367000" y="1638360"/>
            <a:ext cx="494496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ременного освещения для ПОС и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370720" y="0"/>
            <a:ext cx="773280" cy="7621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2085840" y="1276200"/>
            <a:ext cx="5513400" cy="42516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76240" y="568332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документ будет выведена следующая информация: исходные данные, рассчитанные значения, формулы, использованные для расчетов, таблицы с нормативно-справочной информацией, названия нормативных документов – оснований проведения расчет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1-26T13:58:14Z</dcterms:modified>
  <cp:revision>288</cp:revision>
  <dc:subject/>
  <dc:title>Слайд 1</dc:title>
</cp:coreProperties>
</file>