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CCA-DCFB-4B32-BDAA-A0EC0F73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2F0-3815-4A1E-ABEF-A10EA56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AC9-ED29-4080-80FC-E8FC4B3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191-5BBE-423B-B2EF-1818304C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FC63-A420-4505-A2C3-8372ABA6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35F6-4706-4615-B7EA-A31F9B0E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BD5-FF3B-46C4-B80C-1354B61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69F1-5BC6-48D4-A8CA-4A9041B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3F18-6CC4-4FC1-A696-C89CA64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59BC-898C-4A95-9833-7075A78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E9D6-8046-4D50-B7EE-7D45C59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4AD-E8C9-4C06-94F7-B95719B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49E-7885-42CE-8E62-8302E4B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D67A-DABE-472D-986E-E018BAC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53E9-DC14-4414-B5B2-50EA6438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2BA-64F0-4B7B-BEB5-F7B55BEB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744-49E8-49FA-9D60-35267C69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1CE-AE3C-4429-9DFD-3FA4FC8B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D70-118E-4A42-977B-93D04F7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202-50FC-4001-B4A8-C994FEF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1D5-5ABD-45DE-80C8-DF1111C0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CF9-7866-437A-900C-31D3709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515-8F43-4F42-9F39-7324F2D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2CC-3CBA-4797-96AB-89025FD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128D-4BA6-43E4-8050-2A037F4B3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2D6-65EC-48D0-AEBA-85A86D8AC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79800"/>
            <a:ext cx="7707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ый план строительства объектов» (ПОС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47640" y="23976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календарного плана строительства объекта ПО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kpl" descr=""/>
          <p:cNvPicPr/>
          <p:nvPr/>
        </p:nvPicPr>
        <p:blipFill>
          <a:blip r:embed="rId4"/>
          <a:stretch/>
        </p:blipFill>
        <p:spPr>
          <a:xfrm>
            <a:off x="747720" y="1301760"/>
            <a:ext cx="792792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92240"/>
            <a:ext cx="81216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строительства объектов в составе ПОС на ранних (предпроектных) стадиях инвестиционно-строительного цикла. Основой проводимых расчетов служат нормы продолжительности строительства зданий и сооружений, в том числе "Нормы продолжительности строительства и задела в строительстве предприятий, зданий и сооружений« (СНиП 1.04.03-85*), "Региональные нормы продолжительности строительства зданий и сооружений в городе Москве" (2007 г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ном модуле учитываются различные условия возведения объектов в отраслевом, территориальном, конструктивном и других аспектах. При расчете продолжительности строительства объектов используются методы интерполяции и экстраполяции, показатели строительства объектов-аналогов и т.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ученный календарный план строительства объекта определяет сроки и очередность строительства основных и вспомогательных зданий и сооружений, технологических узлов и этапов работ, пусковых или градостроительных комплексов с распределением капитальных вложений и объемов строительно-монтажных работ по зданиям и сооружениям и периодам строитель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2384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4428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ормы продолжительности строительства и задела в строительств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едприятий, зданий и сооруж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610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норм продолжительности строительства позволяет получать информацию по нормам продолжительности строительства и задела для объектов строительства различного назначения, их очередей и пусковых комплексов, подбирать объект-аналог, с помощью которого рассчитывается продолжительность строительства и показатели задела для объектов строитель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49600" y="1398600"/>
            <a:ext cx="611496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15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ъект строительства, его состав и характерист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37372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продолжительности строительства необходимо ввести объект, подобъекты или виды работ и задать для них необходимые характеристики. Для каждого подобъекта или вида работ могут быть определены (введены или рассчитаны) свои параметры продолжительности строительства, распределения объемов инвестиций и строительно-монтажных работ по периодам строительства, задан период начала строительства в рамках общей продолжительности строительства объек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35280" y="1052640"/>
            <a:ext cx="61149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-2700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пределение продолжительности строительства и распределение объемов инвестиций  и СМР по периодам строитель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6093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продолжительности строительства объекта производится на основе показателей выбранного объекта-аналога с использованием методов интерполяции и экстраполяции или с использованием расчетного мет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87680" y="1628640"/>
            <a:ext cx="612432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1592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одолжительности строительства и задела в строительстве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56610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объекта или вида работ может быть выбран объект-аналог из справочника норм продолжительности строительства. В зависимости от значения основного показателя для объекта (мощности и т.п.) определяются нормы продолжительности строительства и показатели задела, рассчитанные по выбранному объекту-аналогу с использованием методов интерполяции и экстраполя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63640" y="1413000"/>
            <a:ext cx="611496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890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адание природно-климатических условий при расчете продолжительности строительства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6114960" cy="4057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6440" y="58053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а по показателям объекта-аналога могут учитываться природно-климатические условия строитель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8900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адание технологических и организационных условий при расчете продолжительности строительства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979640" y="2100240"/>
            <a:ext cx="5838840" cy="2552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4724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а по показателям объекта-аналога могут учитываться технологические и организационные условия строитель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1666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ный метод определения продолжительности строитель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76440" y="54450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определении продолжительности строительства объекта расчетным методом используется справочник отраслей, видов объектов, который содержит расчетные коэффициенты для всех отраслей и видов объектов. Данные коэффициенты являются основой для расчета продолжительности строительства объекта в зависимости от выбранной отрасли и вида объекта и заданного объема строительно-монтаж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754280" y="1163520"/>
            <a:ext cx="61149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8:12Z</dcterms:created>
  <dc:creator/>
  <dc:description/>
  <dc:language>en-US</dc:language>
  <cp:lastModifiedBy>-</cp:lastModifiedBy>
  <dcterms:modified xsi:type="dcterms:W3CDTF">2013-06-21T09:16:17Z</dcterms:modified>
  <cp:revision>235</cp:revision>
  <dc:subject/>
  <dc:title>Слайд 1</dc:title>
</cp:coreProperties>
</file>