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CF9-318B-4CA2-A924-F55250D4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2AE-7590-4E7F-9214-5E6576FC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745-BA74-4B0D-9766-F61A4A76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86B-9F2E-4D21-A06F-60036F1D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26CD-E33A-4D52-8ECD-95A18CA4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180F-F2A0-42BD-BCC2-7C5426B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E38F-D165-4E56-BB1A-47FAA3E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255-33FE-4923-BB82-14CA5604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F62-7E09-44E0-8826-14CF03A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6689-25F6-4DF4-8E93-78A6625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5B9-6FDF-4600-B4C8-0491F13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6A0-F515-4D49-B9F4-18265F0C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D5E2-0251-49FE-8C20-E4796E3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4D7-D077-4CA5-8503-6649E1C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3A3D-0CF7-4BEC-9215-BD22681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794-FBB0-4FE6-8476-6DC6D59C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72CB-66B4-4479-9313-2E63513D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87E-0658-48A7-A7B9-8D0DE39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A9F-8786-4DA0-A987-6490135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C7A-C4C8-48E7-9561-055412B4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EEC-F9A5-4EE6-87CB-3B6899D6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156-2EC0-44DB-B41E-D9BFA80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5A7-FD1E-41A8-92F4-4814B7B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E43-982B-46C4-9EED-977584E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4D83-B297-4086-8662-4DB2E19A9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47CA-06B9-4D1D-9896-9B8A39C89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вод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диаметра тру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6040" y="4119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необходимого диаметра труб временной водопроводной напорной се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639800" y="1328760"/>
            <a:ext cx="66438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500120" y="1407960"/>
            <a:ext cx="64483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638360" y="1374840"/>
            <a:ext cx="64008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996840"/>
            <a:ext cx="81216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ления воды на строительной площадке для обеспечения производственных, хозяйственных и противопожарных нужд. Модуль обеспечивает автоматизированное формирование фрагментов пояснительной записки ПОС и ППР в части расчета временного вод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воде на производственные и хозяйственно-бытовые нужды производится по укрупненным показателям на 1 млн. руб. стоимости годового объема СМР с учетом отрасли и района строительства по расчетным нормам. Расход воды на противопожарные нужды принимается согласно нормативным документам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воде на производственные нужды производится на основании данных о конкретных потребителях в наиболее загруженную смену. Расход воды на хозяйственно-бытовые нужды также определяется по конкретным потребителям по нормативным показателям. Расход воды на противопожарные нужды производится раздельно для наружного и внутреннего пожаротушения в соответствии с назначением и объемом зданий заданной функциональной пожарной опасности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расхода воды на производственные нужды, норм количества воды на 1 млн.руб. годовой стоимости СМР, норм расхода воды на хозяйственно-питьевые нужды и пропускной способности труб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73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водоснабжения, далее в зависимости от указанного типа расчета задать ряд показателей, необходимых для расчета расхода воды на производственные, хозяйственно-бытовые нужды и пожаротуш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1800" y="952560"/>
            <a:ext cx="742140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вод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6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водоснабжения необходимо задать его наименование и указать тип расчета. При необходимости можно изменить значения коэффицие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584360" y="1319040"/>
            <a:ext cx="6348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роизводственного потребите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2498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роизводственных потребителей для расчета потребления воды на производственные нужды производится с использованием справочника норм расхода воды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 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21000" y="2246400"/>
            <a:ext cx="660060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хозяйственн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хозяйственные нужды необходимо ввести численность работающих в наиболее загруженную смену. При необходимости можно уточнить число часов в смене, а также задать ряд показателей для учета водоснабжения душевых и стол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76440" y="2568600"/>
            <a:ext cx="8151480" cy="29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роизводственные и хозяйственно-бытов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326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схода воды на производственные и хозяйственно-бытовые нужды производится на основании справочника норм количества воды на 1 млн. руб. годовой стоимости СМР по отраслям промышлен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11280" y="2612880"/>
            <a:ext cx="8186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444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ожароту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ОС и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4653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пожаротушение сначала необходимо задать способ расчет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 - ос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МДС 12-46.2008, МГСН 1.01-99 или СП (строительные правила). Далее ввести все показатели, необходимые для расчета расхода воды для выбранного способа рас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69880" y="1509840"/>
            <a:ext cx="816300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бщего потребления 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объект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452592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максимально возможного потребления воды на стройплощадке на производственные и хозяйственно-бытовые нужды (без учета пожаротушения) по выбранным схемам (вариантам) временного водоснаб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822320" y="1574640"/>
            <a:ext cx="6351840" cy="27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18:12Z</dcterms:modified>
  <cp:revision>215</cp:revision>
  <dc:subject/>
  <dc:title>Слайд 1</dc:title>
</cp:coreProperties>
</file>