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3839-5F06-4CF1-BCF7-1E035C24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AB25-C5AD-4C38-B2B2-47D415B2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53B7-8997-4163-AD05-0F2A6473D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3D0E-C0C2-48F1-8E26-B9849FE8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EC24-10F6-4335-B4A8-3809B8F8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C1FB-AFEF-4075-B9BF-FD2646BD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54DB-ED71-4A8C-BF66-D9908A35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5634-3DFE-4BC3-B6DA-FA328655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9FA1-B2DB-45A0-AC59-5571AF03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E7F5-3FC1-4749-B58B-6CFDD406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17B6-5B0A-4D38-BF67-9278DA00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A8F8-0C4D-40C3-93FE-52751485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D2AA-41D9-4756-9B10-1A2E6DC3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62F5-B591-4902-98BE-6BE78C07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DC35-82F9-47B6-9A43-68995935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09B2-33DF-4CFB-92BD-1B75647B8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F11F-3C3C-4B15-A1EE-8AAD47D89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780E-0133-4F49-BBD9-E65E0A9C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655B-15F7-4E5B-978F-19E7C473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55C6-DA8E-44E6-9FF2-FA3B8772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C3E8-9DEC-4C6F-B344-9604B081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B2BD-CB1A-4CBC-867C-4D4887C2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9875-5C25-40FD-8E31-E276E4C2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7454-EDAD-4AB3-A626-C2BAEF93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5299-9FD3-4830-A7E1-49393B0D30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2F2E-79C4-4A84-83BF-41D4552A9D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Земляные работы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563840" y="291960"/>
            <a:ext cx="6576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на чертеже схемы анкерных креплений для котлованов с укреплением стенкам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0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760320" y="612792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котлованов с укреплением стенок можно вставить в чертеж схему анкерного крепления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2338560" y="1684440"/>
            <a:ext cx="5106960" cy="43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остроение незамкнутой «стены в грунте»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1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1362240" y="1360440"/>
            <a:ext cx="6870600" cy="412128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752400" y="560556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Крепление «стена в грунте» может быть построено отдельно, при этом рассчитывается максимальная глубина «стены в грунте» и необходимый объем бетона для выполнения конструкции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563840" y="2667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остроение транше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752400" y="4919760"/>
            <a:ext cx="758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остроения траншеи необходимо указать начальную глубину траншеи, а также ее ширину и уклон. Возможно построение траншеи с откосами или укрепленными стенками.  Предусмотрена возможность вставки в ключевых точках квадратных или круглых колодцев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1857240" y="1111320"/>
            <a:ext cx="5942160" cy="36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трассировки траншеи на чертеже в план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3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3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2075040" y="1515960"/>
            <a:ext cx="5524200" cy="33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кладка труб в разрезе транше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4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752400" y="596124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сле построения траншеи и ее разреза можно рассчитать объем песка, необходимый для обратной засыпки, а также выполнить раскладку труб в траншее в земле, либо в коробе. Короб и трубы вычерчиваются на разрезе транше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2573280" y="870120"/>
            <a:ext cx="4660920" cy="49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колонки грунтов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5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1057320" y="1414440"/>
            <a:ext cx="7219800" cy="33624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752400" y="490680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любого построенного котлована или траншеи в чертеж можно вставить изображение колонки грунтов в точках задания рельеф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одбор землеройной тех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6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6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771480" y="574200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выбрать марку экскаватора и самосвала. На основании значения объема выемки грунта, а также параметров транспортировки и эксплуатации будет рассчитано необходимое количество самосвалов и ездок для вывоза грунт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4"/>
          <a:stretch/>
        </p:blipFill>
        <p:spPr>
          <a:xfrm>
            <a:off x="1914480" y="896760"/>
            <a:ext cx="6056280" cy="471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63840" y="30492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орректировка справочников тех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7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7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771480" y="535464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 случае необходимости справочники (базы данных) техники можно изменять и дополнять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4"/>
          <a:stretch/>
        </p:blipFill>
        <p:spPr>
          <a:xfrm>
            <a:off x="1336680" y="1123920"/>
            <a:ext cx="6797520" cy="40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расчета потребности в землеройной техник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8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8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939960" y="1606680"/>
            <a:ext cx="7515000" cy="28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563840" y="291960"/>
            <a:ext cx="6576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ведомости объемов работ и технической характеристики экскаватор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9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9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4"/>
          <a:stretch/>
        </p:blipFill>
        <p:spPr>
          <a:xfrm>
            <a:off x="299880" y="1949400"/>
            <a:ext cx="4434120" cy="26305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5"/>
          <a:stretch/>
        </p:blipFill>
        <p:spPr>
          <a:xfrm>
            <a:off x="4923000" y="1949400"/>
            <a:ext cx="3954240" cy="26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остроения котлованов и траншей на чертеже с учетом заданного рельефа местности, максимально возможной крутизны откосов и возможного их крепления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определения объемов земляных работ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расчета потребности в землеройной технике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сетки осей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одбора консольных креплений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Бестраншейные технологи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40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714240" y="597996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Задача «Бестраншейные технологии» включает в себя справочники по технике, статьи по различным видам технологий, а также типовые технологические карты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733320" y="1133640"/>
            <a:ext cx="4376880" cy="200016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5"/>
          <a:stretch/>
        </p:blipFill>
        <p:spPr>
          <a:xfrm>
            <a:off x="744480" y="3540240"/>
            <a:ext cx="3264120" cy="21906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6"/>
          <a:stretch/>
        </p:blipFill>
        <p:spPr>
          <a:xfrm>
            <a:off x="5729400" y="1076400"/>
            <a:ext cx="3016080" cy="221760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7"/>
          <a:stretch/>
        </p:blipFill>
        <p:spPr>
          <a:xfrm>
            <a:off x="4392720" y="3643200"/>
            <a:ext cx="4351320" cy="188604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5038560" y="1995480"/>
            <a:ext cx="793800" cy="39672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616040" y="3048120"/>
            <a:ext cx="485640" cy="598320"/>
          </a:xfrm>
          <a:prstGeom prst="downArrow">
            <a:avLst>
              <a:gd name="adj1" fmla="val 50000"/>
              <a:gd name="adj2" fmla="val 30801"/>
            </a:avLst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645080" y="3029040"/>
            <a:ext cx="485640" cy="664920"/>
          </a:xfrm>
          <a:prstGeom prst="downArrow">
            <a:avLst>
              <a:gd name="adj1" fmla="val 50000"/>
              <a:gd name="adj2" fmla="val 34229"/>
            </a:avLst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563840" y="2667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остроение сетки осе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419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0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771480" y="393228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остроения на чертеже сетки осей необходимо указать количество горизонтальных и вертикальных осей, а также расстояние между ними. В случае необходимости сетку осей можно продолжить с другим шаг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4"/>
          <a:stretch/>
        </p:blipFill>
        <p:spPr>
          <a:xfrm>
            <a:off x="1343160" y="1152360"/>
            <a:ext cx="6661080" cy="26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сетки осей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429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0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1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4"/>
          <a:stretch/>
        </p:blipFill>
        <p:spPr>
          <a:xfrm>
            <a:off x="1623960" y="1009800"/>
            <a:ext cx="6394680" cy="50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одбор консольных креплен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43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9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752400" y="579600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одбор консольных креплений производится в соответствии с таблицами, рассчитанными в технологической карте Мосгоринжстроя. Для проведения расчета необходимо указать глубину траншеи и параметры грун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4"/>
          <a:stretch/>
        </p:blipFill>
        <p:spPr>
          <a:xfrm>
            <a:off x="1384200" y="907920"/>
            <a:ext cx="6399360" cy="47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подбора консольных креплен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44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49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4"/>
          <a:stretch/>
        </p:blipFill>
        <p:spPr>
          <a:xfrm>
            <a:off x="1338120" y="1530360"/>
            <a:ext cx="6873840" cy="35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3166920" y="1127160"/>
            <a:ext cx="2752920" cy="30002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743040" y="433404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решать задачи по открытой разработке (построение котлованов и траншей, расчет потребности в землеройной технике), бестраншейным технологиям, подбору консольных креплений и построению сетки осе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1904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Открытая разработк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911160" y="5734080"/>
            <a:ext cx="758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остроения котлованов необходимо предварительно указать глубину котлована и необходимость вертикальной планировки. По результатам построения котлована или траншеи будет автоматически вычислен объем выемки грунта, который может быть использован для подбора землеройной техник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962000" y="885960"/>
            <a:ext cx="5561280" cy="47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Указание рельефа местност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43040" y="578808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ри построении любых котлованов и траншей обязательно определяется рельеф местности и толщины слоев грунта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Слои грунта определяются для каждого из узлов сетки рельеф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087560" y="1047600"/>
            <a:ext cx="2136600" cy="21592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3933720" y="1015920"/>
            <a:ext cx="4200480" cy="4626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176640" y="2433600"/>
            <a:ext cx="803160" cy="397080"/>
          </a:xfrm>
          <a:prstGeom prst="rightArrow">
            <a:avLst>
              <a:gd name="adj1" fmla="val 50000"/>
              <a:gd name="adj2" fmla="val 50567"/>
            </a:avLst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котлована с откосами на чертеже в плане и разрез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1068480" y="1476360"/>
            <a:ext cx="7197480" cy="43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остроение на чертеже съезда в котлован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93800" y="478296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котлована может быть построен съезд. Объем съезда включается в общий объем земляных работ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4702320" y="1579680"/>
            <a:ext cx="3746520" cy="30002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"/>
          <a:stretch/>
        </p:blipFill>
        <p:spPr>
          <a:xfrm>
            <a:off x="574560" y="2138400"/>
            <a:ext cx="3494160" cy="171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008600" y="2774880"/>
            <a:ext cx="803160" cy="397080"/>
          </a:xfrm>
          <a:prstGeom prst="rightArrow">
            <a:avLst>
              <a:gd name="adj1" fmla="val 50000"/>
              <a:gd name="adj2" fmla="val 50567"/>
            </a:avLst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остроение котлована с укреплением стенок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6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7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8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752400" y="401796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остроения котлована с укреплением стенок необходимо определить тип крепления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1484280" y="1349280"/>
            <a:ext cx="6492960" cy="24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котлована с укреплением стенок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6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7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1181160" y="1473120"/>
            <a:ext cx="7132680" cy="453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3-06-17T13:47:03Z</dcterms:modified>
  <cp:revision>296</cp:revision>
  <dc:subject/>
  <dc:title>Слайд 1</dc:title>
</cp:coreProperties>
</file>