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E6D-E935-4136-9FB7-B2A0864E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9F2-681C-47A2-AF74-389FB9EA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2F9-E54A-4ADA-95AF-8B0361BE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8CA-B944-44B8-976B-81D1D452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AC91-2901-42DA-97D8-C91F6E24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89B-78BE-40C0-A71B-9A85E1C4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19F-DC8D-4A8E-9568-23628B5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5D4-8E92-416A-8DA4-BF2F041C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C9C-631B-42F7-96B7-D4071695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426B-1AB2-4C6E-8117-5720A1E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408-EE12-463F-9AAE-EF0BEFA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769-69D5-437B-9D8B-D4E6C424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78BB-C31B-4B6C-BACC-CDA9241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D2D-2728-4897-B222-E0CBD60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1934-F7F9-4666-96EF-26BBE3C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2210-EA4D-4771-B1F9-8760C4A4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5083-9898-424F-997A-6A151647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AD3-E237-4950-A0A8-42BDFBA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64D-DA12-427A-BA33-9229A22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3E9-7F95-41F1-9304-09C74C6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638-21EB-44E7-958F-5D54CA27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DEE-8E40-4477-B587-D9B3949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A23-F746-451C-AD38-B0381A4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FF8-05A8-4649-8729-5814FBF2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2C66-5950-4400-A0B4-C3EED632D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BFF7-E659-4EC0-A7F7-AD5A07CB7A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хемы складирова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мещения на чертеже принятых схем складирова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Используемые схемы соответствуют нормативным требованиям техники  безопасности к складированию отдельных видов строительных конструкций и материалов открытого хранения, а также требованиям пожарной безопас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Для определения потребности в площадях для складирования материалов и изделий, оборудования и машин можно воспользоваться модулем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Складские площад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672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лавное окно программного модуля позволяет вставить в чертеж выбранную схему порядка складир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85960" y="985680"/>
            <a:ext cx="59817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складирова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098800" y="1641600"/>
            <a:ext cx="5376600" cy="44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14:46Z</dcterms:modified>
  <cp:revision>271</cp:revision>
  <dc:subject/>
  <dc:title>Слайд 1</dc:title>
</cp:coreProperties>
</file>