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1A6B-7A96-48E6-9EB3-AFDA747FA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7DD9-7622-4666-BA1B-B3E3F49D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09B3-95E4-4147-89F8-094E42F34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7F32-F31B-420B-BFAA-7FA6BB35E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59EE-FF5B-447C-8A48-C7939466E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382F-FCA9-4C96-86D8-1D21E0C6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6294-1AE0-47BA-AB4C-25DE2296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5648-402D-42DC-AC7B-07264607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6872-AFFF-4398-A8A2-4A16781E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B742-F548-40E7-BFE3-4272B826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E0DB-8A5C-4096-9C8A-E4E81555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59A4-E658-423C-BD8B-55E39772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5B14-F7F1-4D88-86CC-D07FFFD2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CCB4-3AA9-47C3-BE94-66233588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742B-E916-4C81-8D71-A3A00CD1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0D8F-F571-43CC-B7E6-93CDACF66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A727-FF6A-4358-8AA8-B38EB16AE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4623-168B-4440-9FE9-3B41F815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E320-CE2A-4E9A-BD76-36D588F1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04FE-659F-4AD2-B715-9796FDEB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F314-6239-43B9-ADCB-EABD5DEC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7A17-5D96-4DB3-AFB2-5BD101EE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4EA8-DC3F-4D72-8A32-2A44138C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4B1E-9991-4CC9-8870-C250EE0C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F0E3-EEF4-46BF-81C3-7078ABDB18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B76E-F3BE-4771-AFD9-8EC4E3AD12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68720"/>
            <a:ext cx="770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Техника безопасности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073160"/>
            <a:ext cx="8121600" cy="56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автоматизированного формирования документации, отражающей вопросы техники безопасности и охраны труда. Программный модуль состоит из следующих пяти разделов.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Задачи техники безопасности, решаемые на стадии ПОС; в разделе помещены материалы, освещающие общие вопросы обеспечения безопасности труда, требования безопасности при эксплуатации машин, механизмов, инструмента и т.д., всего 7 задач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Задачи техники безопасности, решаемые на стадии ППР; в разделе помещены требования безопасности при производстве отдельных строительно-монтажных работ, всего 20 задач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Задачи техники безопасности, решаемые при разработке ППРк; содержит общие требования безопасности при эксплуатации грузоподъемных механизмов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Отраслевые типовые инструкции по охране труда; в разделе помещены инструкции по основным строительным специальностям, всего 64 инструкции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Гигиенические требования; в разделе помещены требования к организации рабочих мест в разных условиях производства СМР, гигиенические требования к оборудованию и механизмам, гигиенические требования к выполнению отдельных строительно-монтажных работ, организации рабочих мест и т.п.; всего 36 задач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Модуль предоставляет пользователю возможность отобрать, скомпоновать, нужным образом отредактировать отобранный материал и  оформить его в виде необходимого документа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Предоставляемые материалы основаны на актуальных требованиях нормативно-правового регулирования при проектировании, строительстве и реконструкции объектов капитального строительства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526248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отметить требуемые типовые разделы и включить их в разрабатываемый выходной документ.  В иерархическом списке разделов выходного документа имеется возможность создания новых разделов и правки существующих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84080" y="1192320"/>
            <a:ext cx="7981920" cy="39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оррекция раздела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89040" y="39798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равки раздела выходного документа нужно задать его новое наименование и, при необходимости, изменить вышестоящий разде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068480" y="1793880"/>
            <a:ext cx="6946920" cy="200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охранение выходного документ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76440" y="48052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зработанный выходной документ можно сохранить для дальнейшей работы, предварительно задав его наименов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500120" y="1484280"/>
            <a:ext cx="609624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16040" y="442440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осле завершения ввода всей требуемой информации можно сформировать и открыть в текстовом редакторе документацию, отражающую вопросы техники безопасности и охраны труда. С помощью соответствующих флажков в окне настроек печати выходного документа можно указать дополнительные требования к формированию отче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298520" y="1374840"/>
            <a:ext cx="6748560" cy="2908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5-04-13T14:39:42Z</dcterms:modified>
  <cp:revision>252</cp:revision>
  <dc:subject/>
  <dc:title>Слайд 1</dc:title>
</cp:coreProperties>
</file>