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D8B-404A-4C3E-A29D-B7F1CF86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906-0273-4F12-BFB0-D82E9B40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632-A681-43FA-A6AA-7C53C84A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140-E1FE-42DE-9AE4-B6119BE6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C913-E214-4E55-9DA2-84640307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237E-E210-44A4-9448-D08832EE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CED5-FADC-488A-92CB-ECF63843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210D-8BEA-46B9-92D3-313EBCE6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CEB9-FCB2-4594-83DB-4B087C3B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91FC-5F71-49BB-8443-C5BD516F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9530-549A-4021-A73D-EEB77678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E83-9B62-4820-BA16-67CD363F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7F00-988A-45DD-B9CB-D47CEFDD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1187-0DD7-483F-B5C2-747ABEF0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FCCB-C2B9-4CB5-8932-6D33547F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30D7-E83C-4D18-8956-E30D02C9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3DE8-B383-4D86-A602-5769281F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D09-4281-4A4B-867A-58C36223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BDF-B8A5-430D-B739-81BB50AA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0B5-7D37-428D-8714-C4F6D1F5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0D9-DA64-43A3-9B1C-FFDB8CDF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56C-F363-4241-AA2B-37624A14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EC6-B1C3-49C8-A8B9-225CFE05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FEA-0C41-4469-B47A-502D1D99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B5EC-48EC-4C09-8881-085EEFC327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7AD3-3642-401F-8DB2-1ADA7CF236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мачтовых подъемник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грузовых и грузопассажирских мачтовых подъемников по грузоподъемности и высоте подъема груза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ческих изображений выбранных мачтовых подъемников в плане и разрез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9151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бор подъемников формируется в таблице и сохраняется в чертеже. Подъемники в наборе можно изменять и удалять. Для выбранных в таблице подъемников можно построить изображения в плане и разрезе, а также вставить или удалить вынос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260440" y="963720"/>
            <a:ext cx="5164200" cy="48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мачтового подъемни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7625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ачтовые подъемники можно подобрать по грузоподъемности, максимальной высоте подъема и возможности горизонтального перемещения груза. Высота подъемника подбирается автоматически в соответствии с заданными параметр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52600" y="922320"/>
            <a:ext cx="5016600" cy="47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904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мачтовых подъемников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788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троение изображений выбранного подъемника в плане и разрезе с указанием масштаба построения. Дополнительно могут быть построены условные обозначения опасных зон и размеры подъемника и опасной зон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791240" y="1195560"/>
            <a:ext cx="3993840" cy="2662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725400" y="1203480"/>
            <a:ext cx="40053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я мачтового подъемника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881360" y="2541600"/>
            <a:ext cx="2485800" cy="3533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5710320" y="1362240"/>
            <a:ext cx="2270160" cy="517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24:51Z</dcterms:modified>
  <cp:revision>248</cp:revision>
  <dc:subject/>
  <dc:title>Слайд 1</dc:title>
</cp:coreProperties>
</file>