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8AF7-9D57-4657-B079-17E20A571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9BB4-019A-4486-A2E1-F0F0EA97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88BE-F6C0-4F55-AF59-6B6A0E78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CD94-CB09-44C1-82CC-03632CA6F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DCC4-C0D0-4233-900F-309539DE2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3B53-D1B5-42C0-837A-2E36D63F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FF4B-32A6-4BB4-B0D8-0D300DCC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53C9-607F-410B-8ABB-6EED683C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EB17-1CD0-4654-8A69-011C924A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6370-4A75-4E38-AB91-52F197FB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E11C-6C17-4E78-A6F5-AD3694CA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D1C8-8684-471C-8C2A-54AD5F5E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9367-E589-4101-9A2E-B8DCB417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7E52-8352-4E84-95F6-91B90EC3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2C1B-8902-45B7-AF7B-8C829D37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3ECB-7F5D-4D86-85E8-4F88AC11A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7F25-E09F-4E23-8F00-169C4A228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AD4A-614E-405B-ABB3-7B578E96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FD04-E2A4-45EA-BF04-C4BF618E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F55F-EF63-4CE3-9AD0-D9107EA6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0B87-78A9-4B33-B63F-6D3A2FC5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AB27-E9C8-4AA0-AD67-52AF8FDB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5894-88DE-4829-A3FC-1264B7DC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0A51-ED67-4D4D-AB73-6F50A77B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B189-1585-4DE4-A9FE-6519761181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6565-4075-4AB0-993D-5BD203FDF9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3941640"/>
            <a:ext cx="81583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Расчет потребления топлива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52520"/>
            <a:ext cx="8121600" cy="25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расчета количества топлива (бензин, дизельное топливо), необходимого для обеспечения работы машин и механизмов на весь период строительст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Расчеты производятся на основании данных норм потребления топлива различными машинами за час работы, потребности в основных строительных машинах и механизмах и потребности в транспортных средствах и грузоперевозк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28640" y="48150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добавить новый проект или открыть существующий. При создании нового проекта вводится его наименование и продолжительность строительств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585800" y="1166760"/>
            <a:ext cx="6356520" cy="35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12708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Формирование списка машин и механизмов, потребляющих топливо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76440" y="62596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писок машин и механизмов для проекта формируется на основе справочника машин или вводится вручную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135080" y="1050840"/>
            <a:ext cx="6978600" cy="519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160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бота со справочником машин и механизмов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16040" y="49197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В программном модуле имеется возможность изменения пользователем справочника машин и механизмов. При добавлении новой машины или механизма необходимо ввести наименование и нормативное количество потребления топлив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227240" y="1249200"/>
            <a:ext cx="717228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а расчета количества топлива, необходимого для обеспечения работы машин и механизм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1147680" y="1774800"/>
            <a:ext cx="7534440" cy="3029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3-06-10T07:10:18Z</dcterms:modified>
  <cp:revision>200</cp:revision>
  <dc:subject/>
  <dc:title>Слайд 1</dc:title>
</cp:coreProperties>
</file>