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9331-4B36-4B41-9EE5-99B2C44D0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EB7F-AE30-4142-B101-1BF33C44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9D2F-6BC2-41D0-B0FA-C7EA3EF01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2958-D2E1-40D4-90CB-9A45B30FC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A285-9F71-482B-8135-439FA497F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678E-4D64-4381-9480-CAB91B73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1012-6731-45DF-B10E-FCF8B769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AEEB-2725-40D0-95F2-B0BDEC99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4F2C-6831-4D8C-B42D-6CA1C14D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A5D5-0837-4031-BAAA-81937245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396E-7383-43EF-BF87-898B01C3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9DC9-CF7D-42DD-9930-A8721B81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33EE-B685-4324-A152-ABE2E02A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6253-4A3B-4AC7-AC0C-B9E715B9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3FE33-1AE0-4263-9549-088960A2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B2A7-EADB-44CC-A0F0-B5D700890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F779-7AA2-43DD-95B2-D1E8417FD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A1B6-F78F-486F-A42C-57851A4E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38DE-1921-48D4-B2FD-A714E468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108C-3B20-485D-83C8-1E6E5999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8435-5732-458F-A2F8-35DB6931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C549-29FF-4306-86A9-587A47F1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50B7-17B0-49AA-886D-B766E25B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12EF-3A24-4840-8F99-DD7FFB3A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2C27-690C-4D59-A7AC-6549427F00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6230-406D-476B-8906-487CCD1927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Расчет фундаментной плиты под кран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indent="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расчета плиты, обеспечивающей безопасную эксплуатацию строительных и других кранов общего назначения, портовых кранов, а также кранов, устанавливаемых на объектах, исключающих возможность перерыва в работе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ри расчетах учитываются характеристики крана, параметры критического груза, возможная ветровая нагрузка, а также марки бетона, арматуры и стали для анкерных болтов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17784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803160" y="5594400"/>
            <a:ext cx="758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начала расчета необходимо указать характеристики крана, параметры критического груза, возможную ветровую нагрузку, а также марку бетона и назначение крана. Расчет проводится в два этапа: в начале определяется тип и количество анкерных болтов, а затем производится расчет фундаментной плиты по устойчивости в соответствии с характеристиками грун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2178000" y="819000"/>
            <a:ext cx="5251680" cy="473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анкерных болт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68240" y="574056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расчета количества анкерных болтов необходимо выбрать марку стали, а затем конструкцию бол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2600280" y="1031760"/>
            <a:ext cx="4254480" cy="19051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2352600" y="3382920"/>
            <a:ext cx="4765680" cy="2224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524480" y="2871720"/>
            <a:ext cx="485640" cy="598680"/>
          </a:xfrm>
          <a:prstGeom prst="downArrow">
            <a:avLst>
              <a:gd name="adj1" fmla="val 50000"/>
              <a:gd name="adj2" fmla="val 30819"/>
            </a:avLst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фундаментной плиты по устойчивост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760320" y="592308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змеры плиты, полученные в результате подбора анкерных болтов уточняются по результатам расчета плиты по первой и второй группам предельных состояний. Также определяются параметры армирования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2135160" y="1211400"/>
            <a:ext cx="5595840" cy="46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563840" y="2160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езультатов расчета фундаментной плиты под кран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2038320" y="1276200"/>
            <a:ext cx="5610240" cy="5227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3-06-18T08:07:42Z</dcterms:modified>
  <cp:revision>258</cp:revision>
  <dc:subject/>
  <dc:title>Слайд 1</dc:title>
</cp:coreProperties>
</file>