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45B3-A06E-4FEE-8D47-220A29EBC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B23D-532C-4B64-87F1-7497912BD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0C36-DF2C-4FC0-9D70-C2F11F8B2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D9FA-746F-4036-94F7-436CEC373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EE6B7-CC76-44EC-AEB3-7AB110CB6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D8A23-E1D1-4A51-8A1E-A8D43D2C5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C174E-4697-4E7E-A505-14C186C06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EBEFA-0316-47B9-A039-B11834E07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39F1F-B664-49C8-B206-CBE3048EF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A8635-C1BC-4689-80BD-36B043EC0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CCE23-8025-4536-AFA1-1C7006BC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3B33-0A24-44F6-B253-2C60D96B5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2D2E5-E9CF-4B85-B752-51D7E76A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B609D-2696-4F73-AD28-AF50776D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01786-19E7-407C-8FC4-E969563A4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F1D22-10DB-4744-9CF2-7EDF54C5D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B04B2-8AE2-4928-9439-6164C9A8E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DBC0-6A15-4264-8E9A-46DD1A893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FB5B-16BA-45F0-8F03-5D18FCC86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4480-A1C9-490C-863A-DE9C4EC7F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74F7-9B52-4164-8D11-17DAD326C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A7C9-F8F7-4A94-9BCD-3EF7BCCC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26BF-541C-4A04-BBD0-6C1312A6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7633-EEF7-48AD-8322-A7E03149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12BCF-BE21-4250-9196-87BBB68E7FF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3FAC6-18AC-4EB8-AF4E-F5D8ACD3B60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43520"/>
            <a:ext cx="815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Times New Roman"/>
              </a:rPr>
              <a:t>«Электропрогрев бетона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563840" y="33012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счет напряжения трансформатор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02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03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4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716040" y="583416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определения электрических параметров трансформатора и подводящих проводов необходимо выбрать определенный метод прогрева и требуемые для него исходные данны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4"/>
          <a:stretch/>
        </p:blipFill>
        <p:spPr>
          <a:xfrm>
            <a:off x="944640" y="1185840"/>
            <a:ext cx="7575480" cy="455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563840" y="291960"/>
            <a:ext cx="65768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результата расчетов параметров оборудования, используемого при электродном прогреве бетон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12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13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4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4"/>
          <a:stretch/>
        </p:blipFill>
        <p:spPr>
          <a:xfrm>
            <a:off x="1092240" y="1706400"/>
            <a:ext cx="7238880" cy="448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563840" y="507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cc00"/>
                </a:solidFill>
                <a:latin typeface="Times New Roman"/>
              </a:rPr>
              <a:t>Предварительный электроразогрев бетонных смесе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21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22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3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676440" y="5840280"/>
            <a:ext cx="812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Для расчета параметров оборудования, используемого при предварительном электроразогреве бетонных смесей, необходимо ввести или выбрать из соответствующих справочников исходные данные, провести расчет потребной мощности, параметров электрооборудования и бункер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4"/>
          <a:stretch/>
        </p:blipFill>
        <p:spPr>
          <a:xfrm>
            <a:off x="1155600" y="928800"/>
            <a:ext cx="7010640" cy="488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563840" y="22860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счет приведенной удельной теплоемкости бетонной смес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31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32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4"/>
          <a:stretch/>
        </p:blipFill>
        <p:spPr>
          <a:xfrm>
            <a:off x="1244520" y="1360440"/>
            <a:ext cx="6953400" cy="444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563840" y="114480"/>
            <a:ext cx="65768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cc00"/>
                </a:solidFill>
                <a:latin typeface="Times New Roman"/>
              </a:rPr>
              <a:t>Печать результата расчета параметров оборудования бункера для предварительного электроразогрева бетонной смес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40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41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2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4"/>
          <a:stretch/>
        </p:blipFill>
        <p:spPr>
          <a:xfrm>
            <a:off x="1525680" y="1838160"/>
            <a:ext cx="6676920" cy="485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563840" y="507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ев бетона греющими изолированными проводам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49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50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676440" y="590400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расчета параметров оборудования, используемого при прогреве бетона греющими изолированными проводами, необходимо ввести или выбрать из соответствующих справочников исходные данные и провести расчет электрических параметров проводов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4"/>
          <a:stretch/>
        </p:blipFill>
        <p:spPr>
          <a:xfrm>
            <a:off x="1434960" y="995400"/>
            <a:ext cx="6791400" cy="48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563840" y="241200"/>
            <a:ext cx="65768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результата расчета параметров объемного прогрева бетона с помощью изолированных греющих проводо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59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60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1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4"/>
          <a:stretch/>
        </p:blipFill>
        <p:spPr>
          <a:xfrm>
            <a:off x="1463760" y="1724040"/>
            <a:ext cx="6648480" cy="45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187280"/>
            <a:ext cx="8121600" cy="50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 расчета параметров оборудования, используемого при прогреве бетона методами электродного прогрева, прогрева греющими изолированными проводами, а также оборудования, применяемого при предварительном электроразогреве бетонных смесей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В программном модуле используются следующие базы данных</a:t>
            </a: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182520" algn="just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удельные электрические сопротивления тяжелых бетонов на портландцементах разных заводов (ориентировочные значения)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182520" algn="just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ориентировочное уменьшение величин удельного электрического сопротивления бетона в зависимости от вида и количества применяемых добавок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182520" algn="just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наивысшие допустимые температуры бетона при сквозном электропрогреве;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182520" algn="just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графики нарастания прочности бетонов  в зависимости от температуры</a:t>
            </a: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182520" algn="just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коэффициенты теплопередачи различных опалубок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728640" y="411624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Необходимо выбрать один из методов электропрогрева бетона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электродный прогрев, предварительный электроразогрев бетонных смесей, прогрев греющими изолированными проводам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1790640" y="1077840"/>
            <a:ext cx="5329440" cy="289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19044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Электродный прогрев бетон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76440" y="603108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расчета параметров оборудования, используемого при электродном прогреве бетона, необходимо ввести или выбрать из соответствующих справочников исходные данные, провести расчет требуемой электрической мощности и напряжения трансформатор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200240" y="824040"/>
            <a:ext cx="6896160" cy="513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31752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ыбор удельного сопротивления бетона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716040" y="542772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выбора расчетного удельного сопротивления бетона необходимо указать завод-изготовитель цемента, наименование и количество добавк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479520" y="1076400"/>
            <a:ext cx="8109000" cy="42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31752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счет модуля поверхности конструкции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716040" y="570708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расчета модуля поверхности конструкции необходимо предварительно просуммировать площади и объемы поверхност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1541520" y="1030320"/>
            <a:ext cx="6481800" cy="45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563840" y="16524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ыбор температуры изотермического прогрева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7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4"/>
          <a:stretch/>
        </p:blipFill>
        <p:spPr>
          <a:xfrm>
            <a:off x="1136520" y="1289160"/>
            <a:ext cx="7183440" cy="42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563840" y="13968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ыбор продолжительности изотермического прогрева бетон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82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83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716040" y="622764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родолжительность изотермического прогрева бетона определяется по графику нарастания прочности бетона для выбранной марки бетон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4"/>
          <a:stretch/>
        </p:blipFill>
        <p:spPr>
          <a:xfrm>
            <a:off x="1030320" y="1128600"/>
            <a:ext cx="7464240" cy="50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563840" y="19044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ыбор коэффициента теплопередачи опалубк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92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93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4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716040" y="512280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выбора коэффициента теплопередачи опалубки необходимо указать материал опалубки и скорость ветр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4"/>
          <a:stretch/>
        </p:blipFill>
        <p:spPr>
          <a:xfrm>
            <a:off x="1357200" y="1316160"/>
            <a:ext cx="6873840" cy="3678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3-06-10T12:20:26Z</dcterms:modified>
  <cp:revision>266</cp:revision>
  <dc:subject/>
  <dc:title>Слайд 1</dc:title>
</cp:coreProperties>
</file>