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100-961B-498B-B478-391EA341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C2C-128A-4676-AC03-BC9FA87C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877-8C88-4913-A41D-9CEADB74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222-C9E2-4743-99A0-88158067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EE71-610A-40ED-BFF4-7DFD247F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EC62-8165-4A20-B293-9BE6A934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2DFD-9B14-4513-B127-64925E99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85A7-AC79-4AB3-8CE0-950BE776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C9B4-4D93-4B63-9653-B2C58F70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E17C-B0FD-44FE-87E6-803E117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0062-9633-4473-8B96-91C883FD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93E-8255-4A3C-9DFD-4D80D3E7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BE90-FC2C-4454-AAB4-94E9BA86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6022-6B5F-4937-AB10-17092C2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57AE-A039-4AE3-BB0D-0E9AEA36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6B13-ECF4-4D28-A24C-4254E655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6471-7A97-4B79-B512-FE852ECE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46B-86FA-444A-85A8-09638945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457-4636-42C6-9FA4-47709CB1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59E-227F-4ABB-881B-957E45D0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715-E78A-45D3-BAAA-60C577A1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20F-5932-4392-A8A9-65C1826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9DC-1AA9-400B-BC5E-9F2E5F3B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EF4-687B-4E8A-8CD6-F27C325B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91C7-406C-4878-981A-A696905EB9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BEBC-AC98-4BC5-A1CB-BCA0A2F7C4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водопониж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счета водопонижения котлованов и траншей для выбранной из 12 возможных схем водопониж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контура водопонижающей системы с рассчитанным количеством скважин (иглофильтров) в масштаб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412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50960" y="5173560"/>
            <a:ext cx="7589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чет водопонижений производится по одной из 12 схем водопонижения (в соответствии со СНиП 2.06.14-85). Для проведения расчета водопонижения необходимо указать радиус депрессии, приведенный радиус водопонизительной системы, понижение уровня подземных вод в расчетной точке, коэффициент фильтрации, непониженный напор подземных вод, толщину водоносного слоя и мощность откачки воды, а также некоторые дополнительные параметры (в зависимости от выбранной схемы водопонижения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43120" y="858960"/>
            <a:ext cx="592452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диуса депресс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79480" y="514368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радиуса депрессии производится по одной из семи расчетных схем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805040" y="1031760"/>
            <a:ext cx="59245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Расчет приведенного радиуса водопонизительной систем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40356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иведенный радиус водопонизительной системы рассчитывается исходя из длины линейной системы или размера большей стороны контурной системы. Данный параметр можно ввести вручную или получить из чертежа, указав контур систем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930320" y="1461960"/>
            <a:ext cx="563904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контура водопонизительной системы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3040" y="58262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троение на чертеже контура водопонижающей системы с рассчитанным количеством скважин (иглофильтров) в масштаб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89120" y="1262160"/>
            <a:ext cx="445608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водопони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590840" y="1301760"/>
            <a:ext cx="62085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57:50Z</dcterms:modified>
  <cp:revision>256</cp:revision>
  <dc:subject/>
  <dc:title>Слайд 1</dc:title>
</cp:coreProperties>
</file>