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848-B1BD-42A3-9F7A-C47C84E8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551-7C4C-4DF6-94B7-840F3720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5C3-E936-4EDB-84CF-48701CDE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C97-C45F-4FF1-B1CF-084F2531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1526-FE89-4DEA-90B5-6F3FD613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3ED-160E-4041-B777-AA90C0A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639-B83E-4BA2-81E0-9002DB95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C5A9-1CD2-454E-8FC0-FBD849A4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2590-BA8A-43D4-8D5C-0FE38E5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AEF-46AC-4195-A934-B2121EB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86C7-F4A7-4C73-89CA-8985228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006-C5AB-403A-AF64-B47F9411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D55B-265F-4558-996F-15EF0CE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60A8-858D-4EC0-842F-730648B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01D9-319F-4BEA-8612-2E0CB421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5F4-3C85-4D4B-8DFA-A5FD5356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B4EB-2020-413F-A379-270F6E71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8FE-A358-48A7-8673-2A2D9D70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87D-8B0B-4EFD-8EE5-7783439D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670-A794-4934-B026-6C76E438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A03-2CDB-4226-9254-1991C720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D4D-BCA8-4F9E-A45F-486FC72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855-0E40-4B6E-B610-0E35FB8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143-E5C0-4BD5-AEAF-4991324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7CB8-77CA-4D0A-A3D0-B16F4D652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E7A4-9DA0-4C38-B5C2-01C781EEA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онтроль качест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контроля качества на разных стадиях проектирования и строительства, включая контроль качества производства отдельных строительно-монтажных работ. Программный модуль состоит из двух раздел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первом разделе представлены задачи, освещающие общие вопросы управления качеством строительной продукции, организации входного контроля проектно-сметной документации, контроля качества материалов, конструкций и изделий, операционный контроль качества, приемочный контроль, авторский надзор, технический надзор, государственный контроль качества строительства, организация служб технического контроля и строительных лабораторий, геодезический контроль, всего 10 зада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торой раздел содержит положения, отражающие вопросы контроля качества основных строительно-монтажных работ, включая работы, выполняемые грузоподъемными механизмами и работы подготовительного периода; всего 22 задач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85640" y="1271520"/>
            <a:ext cx="81727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16080" y="1668600"/>
            <a:ext cx="6931080" cy="20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09760" y="122220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, отражающей вопросы организации контроля качества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4960" y="1362240"/>
            <a:ext cx="6265800" cy="27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6:36Z</dcterms:modified>
  <cp:revision>242</cp:revision>
  <dc:subject/>
  <dc:title>Слайд 1</dc:title>
</cp:coreProperties>
</file>