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5D10-3DE6-4FB5-8A82-68460C8C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51EF-303B-451F-979C-78518756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D5C8-CC53-46A0-BEED-1AA4EA84D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E816-3A02-4B04-AF99-AD2C5D6D1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AC6F-BC34-42F2-BFEE-98D7BF63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D09C-079B-41DC-BD02-04BD1291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508E-F167-40DB-BE07-F5ACCA55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C9EF-417E-484C-9AB7-11947671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96E7-108A-408F-AA83-584ED9EE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962C-E7E0-4EA9-B33E-9FDA2BE7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7574-2EA0-499B-80FD-42A00E6C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BDB9-3DD5-42E9-9791-0727E483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94D0-0F3D-4D79-B320-25D77B15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C7FF-B407-4B57-B975-AFBACD92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32EC-6D94-4669-A60E-DDF0503D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557A-1536-48B1-862D-388714D85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10B1-DBEF-4067-97B9-D4A14451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C668-EF51-44B6-89C9-474D4C14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D578-13FB-4D12-95FD-4BC0EC86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36E7-29D8-49BF-8231-A28A1320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4954-F6CB-45B5-962F-16EBE74E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1648-CA89-463B-A8B9-FECB15D2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9168-B0B0-4C1C-8C87-D2DBACA3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3416-374E-40D0-AE4C-DA2AA346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975B-D36F-419B-9BAE-F34A380DB3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5A98-5145-48F9-BDAC-14C30073C1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145040"/>
            <a:ext cx="770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Общие сведен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о программном комплекс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36480" y="1038240"/>
            <a:ext cx="8121600" cy="55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рограммный комплекс "Гектор: Проектировщик-строитель" предоставляет пользователям уникальный инструмент для разработки необходимой и обязательной для строительства документации: проекта организации строительства, проекта производства работ, технологических карт и т.д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Для каждого вида строительства приведен полный набор разрабатываемых  документов, их разделов и отдельных задач, по каждой задаче даются  основополагающие нормативные документы и методики разработки проектных решений, примеры апробированных проектных решени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В разработке и постоянном совершенствовании продукта активно участвуют опытные проектировщик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Для каждого разрабатываемого проектного решения по разделу/задаче ПОС и ППР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18252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риводятся нормативные и методические документы с удобными средствами поиска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18252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излагается существо задачи и требования к содержанию исходной и выходной информации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18252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даются примеры апробированных проектных решений в электронном виде, которые могут служить хорошей основой для собственных проработок (шаблоны - эталоны решений);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18252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редставляются современные средства автоматизации выпуска расчетной, графической и текстовой документации (программные модули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Назначение программного комплекс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50880" y="1363680"/>
            <a:ext cx="8121600" cy="53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рограммный комплекс "Гектор: Проектировщик-строитель" уникален и не имеет аналого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труктурированный перечень разделов и задач ПОС и ППР значительно облегчает проектировщику поиск необходимых нормативных и методических материалов и примеров выполненных разработок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Наличие программных модулей позволяет автоматизировать решение наиболее трудоемких и сложных задач и снизить трудоемкость разработки соответствующих разделов проектной документаци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Удобные и технологичные интерфейсы обеспечивают возможность простого ведения и пополнения электронного технического архив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Использование имеющихся графических и документальных баз данных значительно облегчает работу проектировщи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рограммный комплекс "Гектор: Проектировщик-строитель"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- инструмент, необходимый проектировщикам ПОС и ППР, инженерам групп подготовки производства, преподавателям и студентам ВУЗо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лностью совместим с графическими пакетами AutoCAD и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rics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CAD последних верси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рограммный комплекс позволяет работать как в локальном режиме на отдельном компьютере, так и в сетевом режиме с поддержкой одновременной работы нескольких пользователей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комплекс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36480" y="1528920"/>
            <a:ext cx="8121600" cy="40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меет действующий сертификат соответствия POCC RU.СП15.H00746, выдан ООО ЦСПС - органом по сертификации программной продукции в строительстве, срок действия с 01.09.2014 по 31.08.2016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меет свидетельство об официальной регистрации программы для ЭВМ № 200761352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гражден Золотой медалью "Лауреат ВВЦ" уд. 2456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Является Победителем конкурса лучших ИТ-решений "Продукт года" всероссийской выставки информационных технологий SofToo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екомендован к использованию в московском строительстве экспертной комиссией по новой техник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63840" y="2937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ертификаты и наград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комплекс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63480" y="1406520"/>
            <a:ext cx="8121600" cy="45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мфортная, всесторонняя и оперативная поддержка по телефону или по электронной почт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нсультации в помещении фирмы или с выездом в офис пользовател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частие в регулярных бесплатных семинарах и вебинар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едоставление демоверсии и презентации по программному комплекс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ьготное получение новых верс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99ff99"/>
                </a:solidFill>
                <a:latin typeface="Times New Roman"/>
              </a:rPr>
              <a:t>Мы призываем к сотрудничеству специалистов по организации и технологии строительства: поставленные Вами типовые задачи, имеющие общий интерес, будут решаться и поставляться на безвозмездной основе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563840" y="2937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ользователям программного комплекса гарантируетс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2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3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563840" y="2048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ак нас найт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0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1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98360" y="858960"/>
            <a:ext cx="869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ffff"/>
                </a:solidFill>
                <a:latin typeface="Times New Roman"/>
              </a:rPr>
              <a:t>Адрес НТЦ "Гектор": г. Москва, ул. Огородный проезд, д. 20,</a:t>
            </a:r>
            <a:r>
              <a:rPr b="1" i="1" lang="en-US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700" spc="-1" strike="noStrike">
                <a:solidFill>
                  <a:srgbClr val="ffffff"/>
                </a:solidFill>
                <a:latin typeface="Times New Roman"/>
              </a:rPr>
              <a:t>стр. 1, 7 этаж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ffff"/>
                </a:solidFill>
                <a:latin typeface="Times New Roman"/>
              </a:rPr>
              <a:t>сайт </a:t>
            </a:r>
            <a:r>
              <a:rPr b="1" i="1" lang="en-US" sz="1700" spc="-1" strike="noStrike">
                <a:solidFill>
                  <a:srgbClr val="ffffff"/>
                </a:solidFill>
                <a:latin typeface="Times New Roman"/>
              </a:rPr>
              <a:t>http</a:t>
            </a:r>
            <a:r>
              <a:rPr b="1" i="1" lang="ru-RU" sz="1700" spc="-1" strike="noStrike">
                <a:solidFill>
                  <a:srgbClr val="ffffff"/>
                </a:solidFill>
                <a:latin typeface="Times New Roman"/>
              </a:rPr>
              <a:t>://</a:t>
            </a:r>
            <a:r>
              <a:rPr b="1" i="1" lang="en-US" sz="1700" spc="-1" strike="noStrike">
                <a:solidFill>
                  <a:srgbClr val="ffffff"/>
                </a:solidFill>
                <a:latin typeface="Times New Roman"/>
              </a:rPr>
              <a:t>www</a:t>
            </a:r>
            <a:r>
              <a:rPr b="1" i="1" lang="ru-RU" sz="17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i="1" lang="en-US" sz="1700" spc="-1" strike="noStrike">
                <a:solidFill>
                  <a:srgbClr val="ffffff"/>
                </a:solidFill>
                <a:latin typeface="Times New Roman"/>
              </a:rPr>
              <a:t>gektorstroi</a:t>
            </a:r>
            <a:r>
              <a:rPr b="1" i="1" lang="ru-RU" sz="17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i="1" lang="en-US" sz="1700" spc="-1" strike="noStrike">
                <a:solidFill>
                  <a:srgbClr val="ffffff"/>
                </a:solidFill>
                <a:latin typeface="Times New Roman"/>
              </a:rPr>
              <a:t>ru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i="1" lang="ru-RU" sz="17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i="1" lang="en-US" sz="1700" spc="-1" strike="noStrike">
                <a:solidFill>
                  <a:srgbClr val="ffffff"/>
                </a:solidFill>
                <a:latin typeface="Times New Roman"/>
              </a:rPr>
              <a:t>mail</a:t>
            </a:r>
            <a:r>
              <a:rPr b="1" i="1" lang="ru-RU" sz="17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en-US" sz="1700" spc="-1" strike="noStrike">
                <a:solidFill>
                  <a:srgbClr val="ffffff"/>
                </a:solidFill>
                <a:latin typeface="Times New Roman"/>
              </a:rPr>
              <a:t>support</a:t>
            </a:r>
            <a:r>
              <a:rPr b="1" i="1" lang="ru-RU" sz="1700" spc="-1" strike="noStrike">
                <a:solidFill>
                  <a:srgbClr val="ffffff"/>
                </a:solidFill>
                <a:latin typeface="Times New Roman"/>
              </a:rPr>
              <a:t>@</a:t>
            </a:r>
            <a:r>
              <a:rPr b="1" i="1" lang="en-US" sz="1700" spc="-1" strike="noStrike">
                <a:solidFill>
                  <a:srgbClr val="ffffff"/>
                </a:solidFill>
                <a:latin typeface="Times New Roman"/>
              </a:rPr>
              <a:t>gektorstroi</a:t>
            </a:r>
            <a:r>
              <a:rPr b="1" i="1" lang="ru-RU" sz="17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i="1" lang="en-US" sz="1700" spc="-1" strike="noStrike">
                <a:solidFill>
                  <a:srgbClr val="ffffff"/>
                </a:solidFill>
                <a:latin typeface="Times New Roman"/>
              </a:rPr>
              <a:t>ru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ffff"/>
                </a:solidFill>
                <a:latin typeface="Times New Roman"/>
              </a:rPr>
              <a:t>Тел./факс: (495) 510-15-4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ТЦ "Гектор" поддерживает и постоянно развивает сеть представителей в Москве и регионах России. Обратившись к нашим партнерам Вы всегда можете рассчитывать на самый высокий уровень обслуживания. По вопросам сотрудничества и получения дополнительной информации обращайтесь в отдел по работе с партнерам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802040" y="3745080"/>
            <a:ext cx="4113360" cy="21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99"/>
                </a:solidFill>
                <a:latin typeface="Times New Roman"/>
              </a:rPr>
              <a:t>Как к нам проехать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От м. Тимирязевская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Автобусом 19 до остановки "Пивоваренный завод" (3-я остановка) или маршрутным такси 319 до остановки "Пивоваренный завод“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Автобусами 12, 126, 23 до остановки "Огородный проезд" (2-я остановка).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522360" y="3354480"/>
            <a:ext cx="4159080" cy="342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5-09-04T07:36:58Z</dcterms:modified>
  <cp:revision>134</cp:revision>
  <dc:subject/>
  <dc:title>Слайд 1</dc:title>
</cp:coreProperties>
</file>