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000-E75A-4B2C-9479-8A2C6344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D6F-5DEE-4F19-8FE1-BC18261C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0F1-2B87-449E-B613-056729B5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341-69FC-406A-B7E6-8D4250A7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09F5-8A49-4F18-ABB5-FCC807DD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9DAC-F9E3-4C64-B1F0-706B0E33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6BD3-0EBD-4628-81D1-076BD0DE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51DA-6133-4285-9B39-78403F81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5AC9-5971-4DF0-87D2-DC166073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4896-FFF2-445F-97F3-E8DDC910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96D5-A576-4E5E-BB11-944511AE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104-1B24-4EEA-809A-461053F4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A6F9-8314-44A6-9624-B14815F6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A9A1-70F6-4996-B3EC-46220727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428B-ACF3-4473-81EB-A756F44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B4BB-7684-41D7-B26A-22276F2D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8067-7F38-447B-9D0D-31D25F3A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31C-EB16-4F97-99CF-89E13241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39A-220B-4094-B766-E73F8FAC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619-455F-48DC-AA08-BBD27EA1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66F-2E9E-4F9C-A893-C8FDC279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3D1-2A76-43EC-B954-6B7576AD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FB3-3875-4FCC-8F6C-EF063738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0F2-237F-44C9-953C-A9C5BC63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36C0-9FFD-45FE-8386-1609F8A00A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F290-002F-4EC9-BCC3-DD606E2951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ые дорог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строительного генерального плана графических изображений временных дорог выбранного типа и заданны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площадок (разгрузочных, разворотных, разъездов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схемы устройства выбранного типа дорог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количества  материалов, необходимых для устройства дорог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таблицы расхода материал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лучения текстового выходного документа с таблицей расхода материал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41332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бор временных дорог формируется в таблице на основании построенных исходных контуров. До построения дороги на основании исходного контура необходимо указать тип дороги и другие параметры. Для каждой дороги можно вставить в чертеж схему устройства и таблицу расхода материал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363760" y="817560"/>
            <a:ext cx="4767120" cy="45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менение параметров дор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57856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изменения типа дороги, масштаба построений, параметров дороги (ширина, радиус, уширения в кривых), а также ее наименования в наборе. Для каждой дороги автоматически рассчитывается количество материалов для устройства дор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517840" y="923760"/>
            <a:ext cx="4333680" cy="2156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516040" y="3292560"/>
            <a:ext cx="43326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временной дорог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43040" y="511488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 изображениях временных дорог на чертеже автоматически строятся радиусы закругления и уширения в кривы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4889520" y="1652760"/>
            <a:ext cx="3584520" cy="31622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623880" y="1633680"/>
            <a:ext cx="3692520" cy="3189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303560" y="279072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ходный конту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75360" y="262908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дороги 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кой ушир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21000" y="2754360"/>
            <a:ext cx="803520" cy="396720"/>
          </a:xfrm>
          <a:prstGeom prst="rightArrow">
            <a:avLst>
              <a:gd name="adj1" fmla="val 50000"/>
              <a:gd name="adj2" fmla="val 50635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устройства дор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3040" y="52671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типа дороги предусмотрена возможность построения на чертеже схемы устройства дор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2013120" y="1360440"/>
            <a:ext cx="53733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63840" y="266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таблицы расх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тери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95320" y="35528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аблица расхода материалов для устройства временной дороги может быть вставлена в чертеж или сохранена в документе формата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crosoft W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51040" y="1549440"/>
            <a:ext cx="76071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7T08:16:13Z</dcterms:modified>
  <cp:revision>263</cp:revision>
  <dc:subject/>
  <dc:title>Слайд 1</dc:title>
</cp:coreProperties>
</file>