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8F6-6810-4524-8CA3-F84FB4FD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762-3511-4E91-A973-312A28DC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0FF-5BEB-4987-A45C-A9BE4CAF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E8A-BAB8-4D5E-B15E-619EB1E3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312C-BC29-4525-860F-390A7DCC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1237-E583-40FF-B588-6C50B8CC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6175-16CF-43DA-9BD3-0F313DAA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938E-B048-40A4-8055-964DA490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A238-AAF8-48D0-AD1E-45328560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D7BB-0F38-44B9-BD32-2BC8EE56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0160-04B8-478D-998A-0C1F531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2F8-D8A1-4019-AF19-D473F041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B61E-6ED8-4BD1-9264-DCB66BE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0FFB-6096-4699-911F-DCDD7F85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DE05-B40A-41E5-8E92-56E48E98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4095-D15F-4C0B-A847-F9A0C605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289A-99DF-4901-B70E-9D16563B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05B-0782-4A5C-B4A0-5D3EA066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152-3292-4F03-8E98-A6ACD4CA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833-9175-4B2A-81DA-E795158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4DE-A843-4AA4-AF5C-F63BFEDE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75C-5EC5-4A0B-A54F-135BC92C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A64-9610-49BD-9806-E50AC3AE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F1C-2E6C-4727-BDA9-E410B836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508-8F50-456A-A47B-90E91ACF78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5F71-FC8B-4D06-9CF6-21AB33D18D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Условные обознач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черчивания и вставки в чертеж строительного генерального плана знаков и линий условных обозначен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и вставки в чертеж таблицы экспликации условных обозначен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ставки в чертеж  цветографических знаков из ГОСТ Р 12.4.026-2001 и дорожных знак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4321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вставлять в чертеж точечные и линейные условные обозначения, а также формировать и дополнять таблицу экспликации условных обознач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05160" y="1108080"/>
            <a:ext cx="48402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и дополнение таблицы экспликации условных обознач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49053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создания или дополнения таблицы экспликации формируется набор условных обозначений, на основании которого формируется таблица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58800" y="1479600"/>
            <a:ext cx="380700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959360" y="1649520"/>
            <a:ext cx="3610080" cy="3057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289400" y="3902040"/>
            <a:ext cx="803160" cy="39708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Условные обознач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43040" y="515304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очечные условные обозначения (знаки) вставляются в чертеж в виде блок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181240" y="1163520"/>
            <a:ext cx="528336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Линии условных обознач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93800" y="54468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здание линейных условных обозначений возможно двумя способами: как набора блоков (Линии УО) или в виде единого объекта (Линии УО как типы линий). В последнем случае рассчитывается длина линии с учетом масштаба, а также возможно автоматическое формирование таблицы экспликации по построенным на чертеже линия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3840" y="115884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ии У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29920" y="109224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ии У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типы ли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58800" y="1641600"/>
            <a:ext cx="3959280" cy="2877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178600" y="1965240"/>
            <a:ext cx="34081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линий условных обознач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1279440" y="1368360"/>
            <a:ext cx="679788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наки ГОСТ Р 12.4.026-2001 и дорожные зна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43040" y="4543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ки ГОСТ Р 12.4.026-2001 и дорожные знаки вставляются в чертеж в виде цветографических растровых изображений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44440" y="1419120"/>
            <a:ext cx="4286160" cy="299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4762440" y="1486080"/>
            <a:ext cx="415296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я цветографических знаков на чертеже и в таблице эксплика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139760" y="1447920"/>
            <a:ext cx="7302600" cy="49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8T09:51:58Z</dcterms:modified>
  <cp:revision>264</cp:revision>
  <dc:subject/>
  <dc:title>Слайд 1</dc:title>
</cp:coreProperties>
</file>