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EEFE-C451-467C-BF69-A7972E113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8D3D-3F16-450F-971C-C3E8351E1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B88D-2B91-4610-AE6A-A906D1B8A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8442-3D4E-4BFC-8303-89C4897CE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B8877-8513-492E-B557-C0632C49C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0DEAB-832B-4256-BF75-0BA16B96F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99110-A6E3-4E23-8A8C-81ED255EE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4DD0A-93F6-4174-838D-95BD2FFBE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1DAD3-0898-4054-BA23-88B89DCEC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150FC-F913-4BA3-A5D0-CE06C362D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62E2E-B9F7-4539-9C4C-B2E6705CD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A081-77DD-4A7E-BE0E-9B0536F01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B42E8-554C-4CF0-8DB4-44DD6099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D6C42-4110-43B2-994E-C1BB9A801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C06C2-A2EE-4F0D-B3BB-A4D06E724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1BAC1-9C0C-493D-BBF2-0F18B503B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0D0FA-5658-4CFA-96F1-47A2E8EF9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095F-6600-4377-B84D-A1F8ECF30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CCA4-6513-4DB1-AB20-81DF18CE6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5AAF-B11E-4059-925C-E81E3D3B3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7654-428F-40CA-90F9-5D288353E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7C30-12E2-4948-BE3F-7D294696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A173-E656-476F-A302-CC688B42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B210-44E3-4D4D-A11D-FC06E639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20DC4-3818-4A83-B769-262572C8832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53397-26A7-4E85-887C-F61FABEA85B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43520"/>
            <a:ext cx="815832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Временное электроснабжение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251000"/>
            <a:ext cx="8121600" cy="53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 расчета потребности в электроэнергии на строительной площадке для обеспечения силовых и технологических нужд, внутреннего и наружного освещения. Модуль обеспечивает автоматизированное формирование фрагментов пояснительной записки ПОС и ППР в части расчета временного электроснабжения на строительной площадке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</a:rPr>
              <a:t>Для формирования пояснительной записки ПОС расчет потребности в электроэнергии производится по укрупненным показателям на 1 млн. руб. стоимости годового объема СМР с учетом отрасли и района строительства по расчетным нормам. Расчет электрических нагрузок выполняется по периодам строительства или этапам работ по максимально возможной мощности потребления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</a:rPr>
              <a:t>Для формирования пояснительной записки ППР расчет потребности в электроэнергии определяется по установленной мощности электроприемников с учетом коэффициента спроса и распределения электрических нагрузок по времени. Общая потребность в электроэнергии рассчитывается на период максимального расхода и в часы наибольшего ее потребления. Рассматриваются следующие группы потребителей: строительная техника, технологические процессы,  внутреннее освещение, наружное освещение и сварочные трансформаторы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</a:rPr>
              <a:t>В программном модуле используются технологические справочники норм количества электроэнергии на 1 млн.руб. годовой стоимости СМР, нормы потребности в электроэнергии на строительную технику, нормы потребности в электроэнергии на технологические процессы, норм потребности в электроэнергии на внутреннее освещение, норм потребности в электроэнергии на наружное освещение, нормы потребности в электроэнергии на сварочные трансформаторы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21600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76440" y="597384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Необходимо ввести схему (вариант) электроснабжения, далее в зависимости от указанного типа расчета задать показатели, необходимые для расчета расхода электроэнерги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1536840" y="812880"/>
            <a:ext cx="6391080" cy="50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30492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Ввод схемы (варианта) электроснабжени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676440" y="455148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ввода схемы (варианта) электроснабжения необходимо задать его наименование и указать тип расчета. При необходимости можно изменить значение коэффициент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1279440" y="1387440"/>
            <a:ext cx="6924600" cy="267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63840" y="291960"/>
            <a:ext cx="65768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Расчет временного электроснабжения на основе мощности потребителе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(для ППР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Ввод потребителя электроэнерги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676440" y="5376960"/>
            <a:ext cx="8121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Ввод потребителей для расчета потребности в электроэнергии осуществляется по группам потребителей (строительная техника, технологические процессы,  внутреннее освещение, наружное освещение и сварочные трансформаторы) с использованием справочников норм потребности в электроэнергии,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справочника строительной техники, списка строительной техники на объекте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или задается вручную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1488960" y="2259000"/>
            <a:ext cx="6604200" cy="286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563840" y="291960"/>
            <a:ext cx="65768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Расчет временного электроснабжения по укрупненным показателям годовой стоимости СМР (для ПОС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716040" y="4830840"/>
            <a:ext cx="8121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Расчет потребности в электроэнергии на основе нормативных показателей годовой стоимости СМР производится на основании справочника норм количества электроэнергии на 1 млн. руб. годовой стоимости СМР по отраслям промышленности. Для расчета данным способом необходимо ввести ряд показателей (годовая стоимость СМР, отрасль промышленности, индекс пересчета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954000" y="1992240"/>
            <a:ext cx="7593120" cy="248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результата расчет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временного электроснабжения для ПО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7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4"/>
          <a:stretch/>
        </p:blipFill>
        <p:spPr>
          <a:xfrm>
            <a:off x="1557360" y="1384200"/>
            <a:ext cx="6334200" cy="51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563840" y="12708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результата расчет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временного электроснабжения для ППР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82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83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4"/>
          <a:stretch/>
        </p:blipFill>
        <p:spPr>
          <a:xfrm>
            <a:off x="1592280" y="1092240"/>
            <a:ext cx="6315120" cy="5587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4-10-15T13:45:25Z</dcterms:modified>
  <cp:revision>217</cp:revision>
  <dc:subject/>
  <dc:title>Слайд 1</dc:title>
</cp:coreProperties>
</file>