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BA9-8B69-4E3D-872F-552FB51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E67-C4A4-4924-875E-6C5E199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2A0-8D22-4938-8CC5-CD292FC2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A86-74EC-4CA8-B674-4C0C5D49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777-66AC-46CF-BF03-41127D3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4B22-1674-434E-8184-51704C4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0411-60A7-4766-8473-2D6D089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3460-69B7-4B89-9477-B7E69FC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49F-1FAE-4D07-ACD1-A80AADC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5AE-8CE4-4838-8852-FC5C6F6F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5566-B19E-41C8-AC67-0A6F03FE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041-FE42-4A4F-957B-AB0E0A4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D057-8EF5-45C3-91FA-77695BC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7E9F-EDC1-4931-9BC9-A771777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F36-5FC7-45AA-95EB-8C558403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C76D-9FA6-4D11-AD05-F6FDEAC5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7EE-66BF-4783-95A7-4042227E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B70-E0A0-4BA5-AABB-551C76DA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FF2-D6FF-49FF-AC0C-25484310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C1A-4DE4-40D0-BD0B-2F6E93E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F4A-CE5B-45FE-A250-CFED655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FE4-E7C8-42EE-A0F6-BEB9B0E2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890-C742-4440-B983-9BEC54D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6E7-FEE4-484B-860D-22E1679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67D4-BCAD-48B7-BFED-632B9B4DBC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D0F7-F3CB-4201-B661-0A86C5016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-трубоукладч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бора крана-трубоукладчик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ого крана-трубоукладчика в видах сбоку, спереди и в плане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ка грузоподъемности выбранного крана-трубоукладч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аны-трубоукладчики выбираются из списка техники. На чертеже можно построить изображения выбранного трубоукладчика в различных проекциях, а также график грузоподъем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311560" y="952560"/>
            <a:ext cx="461304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160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крана-трубоукладчика на чертеже в различных проекциях и графика грузоподъем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35160" y="1603440"/>
            <a:ext cx="54198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8:25Z</dcterms:modified>
  <cp:revision>239</cp:revision>
  <dc:subject/>
  <dc:title>Слайд 1</dc:title>
</cp:coreProperties>
</file>