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C1D-F0F0-4C0F-B9D9-2B8F7479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E81-40EF-45DE-98F7-37E516BB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721-9019-43C7-AF0F-CBA084CA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F01-EBB4-4810-86E9-F15ABEEC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469C-1A4E-445E-BF99-B923466D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69FA-7610-491E-B22A-0FBFE1CB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26D0-B50B-4543-B546-FA63D016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48F1-4F4F-44AE-B684-48EE2655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D912-637D-411B-982D-87A0B0BE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760E-21D1-4B30-AFD8-997171C9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4D1C-EA93-4CCB-BFC7-32FD23DB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317-680D-4092-9E2A-AA9E0AE4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3CDE-D2DA-4453-9188-C8BC9DE0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9936-EAD1-4BBE-92BB-C038C8EE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2F9E-FAEB-481F-9BAE-12F7AC3C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A7A5-26D4-475B-B848-7058B0CC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4AE3-36D0-4C79-94B5-44FC9D3D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04D-DDC9-41EE-A223-A45A6A7D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18D-8062-4C5E-A493-C240DB94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696-E9C5-441E-B8FF-154E5547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8D2-4A2A-4579-AB2C-55CB1EFD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D0B-FD20-4718-8EA2-6707A2A3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071-7FAC-4455-A6D9-D6AD75FD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67E-741F-43AE-96D4-18BC6097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947D-B2CA-4DB0-948A-53BB8EE694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C592-2487-40F5-9F90-D95077CEED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Складские площад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асчета потребности в складских площадях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1639800" y="1386000"/>
            <a:ext cx="629604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отребности в складских площадях на строительной площадке для хранения материалов, изделий, оборудования, машин. Складские площади вычисляются отдельно для случаев открытого хранения, хранения под навесом и хранения в закрытом складе. Модуль обеспечивает автоматизированное формирование фрагментов пояснительной записки ПОС и ППР в части обоснования размеров складских площадок на строительной площадк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ОС расчет складских площадей ведется по укрупненным показателям  на 1 млн. руб. максимального годового объема СМР (для закрытых складов и навесов) и/или на основе норм запаса, фактическом расходе и периоде потребления складируемых материалов и оборудования (для открытых склад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ПР расчет складских площадей  основывается на нормах запаса, фактическом расходе, периоде потребления складируемых материалов и оборудования с учетом норм количества материалов на 1 м2 площади склада и коэффициента использования площади скл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31960" y="5600880"/>
            <a:ext cx="794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пределить варианты расчетов с нормативами для ПОС или ППР и ввести для каждого из них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чень складируемых материалов и издел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чень складируемого оборудования и маши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625760" y="895320"/>
            <a:ext cx="615780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варианта расче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82720" y="5473800"/>
            <a:ext cx="762948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ести наименование варианта и задать все параметры расчетов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ип нормативов (для ПОС или для ППР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коэффициенты неравномерности поступления и потребления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одовую стоимость СМР и индекс пересчета в цены 1969 г. (для варианта с нормативами для ПОС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90520" y="1011240"/>
            <a:ext cx="692784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материалов и изделий с нормативами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31960" y="5600880"/>
            <a:ext cx="794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ОС необходимо указать складируемые материалы и изделия с нормативами, приведенными на физические измерители или на 1 млн. рублей годового объема строительно-монтажных работ. Можно выбрать ручной ввод параметров складирования или использовать справочник норм расчетной площади склада для материалов и издел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662120" y="1265400"/>
            <a:ext cx="6262560" cy="42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оборудования и машин с нормативами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960" y="5600880"/>
            <a:ext cx="794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ОС необходимо указать складируемое оборудование и машины с нормативами, приведенными на физические измерители или на 1 млн. рублей годового объема строительно-монтажных работ. Можно выбрать ручной ввод параметров складирования или использовать справочник норм расчетной площади склада для оборудования и маши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87680" y="1252440"/>
            <a:ext cx="626904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материалов и изделий с нормативами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31960" y="5838840"/>
            <a:ext cx="794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ПР необходимо указать складируемые материалы и изделия с нормативами, приведенными на физические измерители. Можно выбрать ручной ввод параметров или использовать справочник норм складирования материалов и издел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954080" y="1198440"/>
            <a:ext cx="5919840" cy="46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оборудования и машин с нормативами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831960" y="5786280"/>
            <a:ext cx="794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ПР необходимо указать складируемое оборудование и машины с нормативами, приведенными на физические измерители. Можно выбрать ручной ввод параметров или использовать справочник норм складирования оборудования и маши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370160" y="1436760"/>
            <a:ext cx="696276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обоснования размеров площадок для складирования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455840" y="1363680"/>
            <a:ext cx="6724440" cy="515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25:14Z</dcterms:modified>
  <cp:revision>300</cp:revision>
  <dc:subject/>
  <dc:title>Слайд 1</dc:title>
</cp:coreProperties>
</file>