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67E-B02D-42D4-8E43-79297473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223-1DC1-4D4D-B407-F347F6DE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2F1-8867-4DFA-93D6-DBF88BDA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D61-4837-45B9-9F8A-A8429949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9BFF-716C-47E9-AE3A-B6993EDA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C9CD-DE87-4DDD-BC77-B9E927E0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5353-49DA-4967-AF2D-CA446C8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779C-4C53-46FE-A4BB-5B8C1BDF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7AFE-6040-4E45-8C77-23CDB11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37B1-981A-4F0D-8705-A953D796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D6FD-AAF3-4B25-9F83-8F55AF4E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829-12E5-4FA3-8050-B809CFC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45F7-8B5D-497F-9B88-A9CA17AE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B61-67D0-4835-BE48-4CB1FEA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4929-64F1-4778-8067-54199BE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0445-6708-433C-8F17-EC5AC565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071-D75E-4CA2-AED0-A18F21E2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7A6-095C-448C-BA49-66EBD5B2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D18-DE97-439B-A183-09767FDF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7EA-2912-41FA-8A76-E0756A8D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8A5-CFEA-433D-95D1-BFC598DB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0AA-62D8-4140-9185-0471F78E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3C5-E2AB-42DC-A4B2-06C7E11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883-81E5-4591-BA40-A2991B5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24CD-5D17-46FC-9680-27B981AC0F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05D4-A162-4EDB-A3A5-5A5DECFD90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крановые пу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балластного слоя для различных грунтов, типов рельсов, материалов балласта и други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величины давления на земляное полотно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рельсовых путей в план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и построения на чертеже опасных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зон возможного ограничения работы кран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60498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нагрузку от колеса на рельс, размер наиболее выступающей нижней части крана, максимальный рабочий вылет крюка и другие необходимые параметр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71520" y="887400"/>
            <a:ext cx="672948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опорного эле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4381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абариты и материал опорного элемента могут быть выбраны из списка или указаны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46280" y="1098720"/>
            <a:ext cx="617868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286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рельсовых путей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0320" y="58086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подкрановых путей в плане необходимо указать размер колеи, тормозной путь, расстояние от оси крана до элемента торможения и выбрать тип тупикового упора. В случае необходимости можно указать  также размер рельсового звена и способ расчета длины пу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97160" y="887400"/>
            <a:ext cx="50990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пасных зо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27200" y="4483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оведения расчета опасной зоны необходимо указать наименьший и наибольший горизонтальный размер груза, а также максимальную высоту подъема нижней точки груза. После проведения расчета можно построить линию границы опасной зоны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666880" y="1197000"/>
            <a:ext cx="434052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защитного слоя и давления на земляное полотн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25400" y="57196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защитного слоя и давления на земляное полотно необходимо указать число ходовых колес крана и плотность балластного слоя, а также выбрать тип грунта для определения его параметров. Предусмотрена возможность ввода других параметров грунта, полученных, например, в результате натурных измер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050920" y="1204920"/>
            <a:ext cx="540252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подкрановых пут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427040" y="1317600"/>
            <a:ext cx="670104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2:25Z</dcterms:modified>
  <cp:revision>258</cp:revision>
  <dc:subject/>
  <dc:title>Слайд 1</dc:title>
</cp:coreProperties>
</file>