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755-AA91-4F5C-9CDA-41B69D6E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DBD-804D-46A9-A1F9-D13C83C9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763-B92E-43AD-88BC-5FD0CF42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462-B6C2-442B-A8CA-32EBDB5D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7290-6AF8-4770-9412-10984484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9276-4FCC-4096-BAEC-2CACB5C8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ACD5-AC32-4233-9BDB-38ED302B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C4FA-CC56-402A-86C3-E365F4B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C8CB-12F4-4382-B003-DC45B025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BB1A-E6E4-4B18-AB74-4E6A07EE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F835-B102-49AB-A4DC-AAEB7FC6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FE3-D29B-4F98-ACDC-705039C1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09C2-D4A6-4FC0-AB81-D0F75CBE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7757-1E22-4784-B83E-65F11801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0163-A79D-4D76-9EFA-DA3F9025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D150-B3DA-4825-AC1C-BFD271FE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5DE4-DFFC-4D09-B37C-C4318136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56F-1938-4B93-AD73-16FB5489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98F-B38D-42C3-85B1-40E7E2F7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E30-3AAE-419F-AFC6-6D99758A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342-CA2D-465B-9121-1EB24CEF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AE9-EB9C-49F5-A369-6843673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B73-98D6-4AAE-9648-E09A01B1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AB7-927C-4B8E-A85C-83DB503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5605-229F-49D8-8011-DF3DAA1A06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4C0F-7D8E-4C02-9F6C-C13BC54076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бор землеройной техни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подб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емлеройной тех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2131920" y="1316160"/>
            <a:ext cx="543888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51000"/>
            <a:ext cx="812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выбора эффективных землеройных и транспортных средств с учетом условий производства земляных работ. Модуль обеспечивает формирование комплекта машин и оборудования, необходимого для выполнения земляных работ на строительном участке, подбор и расчет необходимого количества марок техн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омплект машин формируется с учетом заданного вида работ, объемов и характеристик разрабатываемых грунтов. Подбор марок техники осуществляется отдельно по каждому виду техники (экскаваторы, самосвалы, бульдозеры, скреперы и пр.) с учетом характеристик машин комплекта. Расчет потребного количества техники производится исходя из ее эксплуатационной сменной производительности, объема и продолжительности раб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а пояснительной записки ППР, технологической карты на земляные работы в части подбора землеройной техники и транспортных сред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796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участок земляных работ, задав основные параметры и перечень разрабатываемых грунтов с их характеристиками, далее для введенного участка работ осуществить подбор техники. Характеристики участка земляных работ можно загрузить из модуля «Разработка котлованов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39960" y="934920"/>
            <a:ext cx="736272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04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участка земляных рабо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58086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участка земляных работ необходимо задать его наименование, выбрать вид работ (в соответствии с ГЭСН или прочие работы), задать продолжительность работ, количество смен, продолжительность смены. Далее для участка нужно сформировать перечень разрабатываемых грунтов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12960" y="947880"/>
            <a:ext cx="577224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землеройно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ики для участка рабо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6689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задать тип работ и конкретную работу (если выбран вид работ по ГЭСН), затем  подобрать требующуюся технику и определить ее количество. Подбор техники для производства земляных работ и определение ее потребного количества производится по следующим категориям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экскаваторы, самосвалы, бульдозеры, скреперы и  проче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911240" y="915840"/>
            <a:ext cx="5761080" cy="45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экскавато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7243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экскаваторов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экскавато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38360" y="790560"/>
            <a:ext cx="624852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самосв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57880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количества самосвалов учитываются характеристики выбранного экскаватора, грузоподъемность, скорость передвижения, время разгрузки и маневрирования самосва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968480" y="781200"/>
            <a:ext cx="562140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бульдозе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16040" y="59151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бульдозеров 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бульдоз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981080" y="774720"/>
            <a:ext cx="562140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88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скрепе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040" y="5940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скреперов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скреп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2336760" y="666720"/>
            <a:ext cx="4998960" cy="521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10-19T14:07:16Z</dcterms:modified>
  <cp:revision>260</cp:revision>
  <dc:subject/>
  <dc:title>Слайд 1</dc:title>
</cp:coreProperties>
</file>